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B3F-204A-453D-A08E-35546725FD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C949-8D77-412C-AD30-D9985B5207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56C-E71A-45CB-A0D7-19FA694D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46B-9C93-4825-A13F-42DD2534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117-513D-42C7-8C65-AA712666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00F-FCFB-4CC1-8A59-489326CB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95B-998D-411D-AE2F-90338E18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504-3D90-4F50-A833-2FBAAF9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6FD-B6F2-48C6-AA27-3934DC26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999-D42E-4CFB-A961-E56E965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F37-B010-4D00-8EDA-E180931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1B4-39C9-486D-857E-0F042ADC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671-88E3-4F25-AA0C-C06DE76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2D7-BD74-409B-B982-D92DDA5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A57-8B38-4B5B-A509-ED2C6FCA2D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1200000">
            <a:off x="3385800" y="3427560"/>
            <a:ext cx="2697120" cy="1411200"/>
          </a:xfrm>
          <a:custGeom>
            <a:avLst/>
            <a:gdLst/>
            <a:ahLst/>
            <a:rect l="l" t="t" r="r" b="b"/>
            <a:pathLst>
              <a:path w="2697956" h="1411288">
                <a:moveTo>
                  <a:pt x="847725" y="797719"/>
                </a:moveTo>
                <a:lnTo>
                  <a:pt x="992981" y="685800"/>
                </a:lnTo>
                <a:lnTo>
                  <a:pt x="1140618" y="578644"/>
                </a:lnTo>
                <a:lnTo>
                  <a:pt x="1314450" y="459582"/>
                </a:lnTo>
                <a:lnTo>
                  <a:pt x="1435893" y="381000"/>
                </a:lnTo>
                <a:lnTo>
                  <a:pt x="1588293" y="288132"/>
                </a:lnTo>
                <a:lnTo>
                  <a:pt x="1695450" y="226219"/>
                </a:lnTo>
                <a:lnTo>
                  <a:pt x="1833562" y="150019"/>
                </a:lnTo>
                <a:lnTo>
                  <a:pt x="1935956" y="102394"/>
                </a:lnTo>
                <a:lnTo>
                  <a:pt x="2031206" y="64294"/>
                </a:lnTo>
                <a:lnTo>
                  <a:pt x="2133600" y="28575"/>
                </a:lnTo>
                <a:lnTo>
                  <a:pt x="2205037" y="14288"/>
                </a:lnTo>
                <a:lnTo>
                  <a:pt x="2274093" y="7144"/>
                </a:lnTo>
                <a:lnTo>
                  <a:pt x="2345531" y="0"/>
                </a:lnTo>
                <a:lnTo>
                  <a:pt x="2409825" y="4763"/>
                </a:lnTo>
                <a:lnTo>
                  <a:pt x="2500312" y="16669"/>
                </a:lnTo>
                <a:lnTo>
                  <a:pt x="2574131" y="38100"/>
                </a:lnTo>
                <a:lnTo>
                  <a:pt x="2628900" y="64294"/>
                </a:lnTo>
                <a:lnTo>
                  <a:pt x="2697956" y="102394"/>
                </a:lnTo>
                <a:lnTo>
                  <a:pt x="2588418" y="192882"/>
                </a:lnTo>
                <a:lnTo>
                  <a:pt x="2559843" y="176213"/>
                </a:lnTo>
                <a:lnTo>
                  <a:pt x="2519362" y="157163"/>
                </a:lnTo>
                <a:lnTo>
                  <a:pt x="2455068" y="138113"/>
                </a:lnTo>
                <a:lnTo>
                  <a:pt x="2386012" y="130969"/>
                </a:lnTo>
                <a:lnTo>
                  <a:pt x="2305050" y="130969"/>
                </a:lnTo>
                <a:lnTo>
                  <a:pt x="2228850" y="145257"/>
                </a:lnTo>
                <a:lnTo>
                  <a:pt x="2145506" y="166688"/>
                </a:lnTo>
                <a:lnTo>
                  <a:pt x="2047875" y="207169"/>
                </a:lnTo>
                <a:lnTo>
                  <a:pt x="1897856" y="283369"/>
                </a:lnTo>
                <a:lnTo>
                  <a:pt x="1771650" y="354807"/>
                </a:lnTo>
                <a:lnTo>
                  <a:pt x="1614487" y="459582"/>
                </a:lnTo>
                <a:lnTo>
                  <a:pt x="1426368" y="590550"/>
                </a:lnTo>
                <a:lnTo>
                  <a:pt x="1247775" y="719138"/>
                </a:lnTo>
                <a:lnTo>
                  <a:pt x="1076325" y="854869"/>
                </a:lnTo>
                <a:lnTo>
                  <a:pt x="945356" y="966788"/>
                </a:lnTo>
                <a:lnTo>
                  <a:pt x="819150" y="1083469"/>
                </a:lnTo>
                <a:lnTo>
                  <a:pt x="714375" y="1185863"/>
                </a:lnTo>
                <a:lnTo>
                  <a:pt x="635793" y="1273969"/>
                </a:lnTo>
                <a:lnTo>
                  <a:pt x="585787" y="1328738"/>
                </a:lnTo>
                <a:lnTo>
                  <a:pt x="545306" y="1362075"/>
                </a:lnTo>
                <a:lnTo>
                  <a:pt x="511968" y="1381125"/>
                </a:lnTo>
                <a:lnTo>
                  <a:pt x="471487" y="1397794"/>
                </a:lnTo>
                <a:lnTo>
                  <a:pt x="433387" y="1404938"/>
                </a:lnTo>
                <a:lnTo>
                  <a:pt x="376237" y="1409700"/>
                </a:lnTo>
                <a:lnTo>
                  <a:pt x="311943" y="1407319"/>
                </a:lnTo>
                <a:cubicBezTo>
                  <a:pt x="301624" y="1406922"/>
                  <a:pt x="332184" y="1411288"/>
                  <a:pt x="314325" y="1407319"/>
                </a:cubicBezTo>
                <a:lnTo>
                  <a:pt x="204787" y="1383507"/>
                </a:lnTo>
                <a:lnTo>
                  <a:pt x="133350" y="1350169"/>
                </a:lnTo>
                <a:lnTo>
                  <a:pt x="54768" y="1309688"/>
                </a:lnTo>
                <a:lnTo>
                  <a:pt x="11906" y="1278732"/>
                </a:lnTo>
                <a:lnTo>
                  <a:pt x="0" y="1254919"/>
                </a:lnTo>
                <a:lnTo>
                  <a:pt x="2381" y="1238250"/>
                </a:lnTo>
                <a:lnTo>
                  <a:pt x="21431" y="1231107"/>
                </a:lnTo>
                <a:lnTo>
                  <a:pt x="54768" y="1238250"/>
                </a:lnTo>
                <a:lnTo>
                  <a:pt x="119062" y="1238250"/>
                </a:lnTo>
                <a:lnTo>
                  <a:pt x="183356" y="1231107"/>
                </a:lnTo>
                <a:lnTo>
                  <a:pt x="238125" y="1219200"/>
                </a:lnTo>
                <a:lnTo>
                  <a:pt x="309562" y="1197769"/>
                </a:lnTo>
                <a:lnTo>
                  <a:pt x="371475" y="1171575"/>
                </a:lnTo>
                <a:lnTo>
                  <a:pt x="445293" y="1123950"/>
                </a:lnTo>
                <a:lnTo>
                  <a:pt x="519112" y="1059657"/>
                </a:lnTo>
                <a:lnTo>
                  <a:pt x="659606" y="942975"/>
                </a:lnTo>
                <a:lnTo>
                  <a:pt x="847725" y="797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4805280" y="4014720"/>
            <a:ext cx="1549440" cy="1492200"/>
          </a:xfrm>
          <a:custGeom>
            <a:avLst/>
            <a:gdLst/>
            <a:ahLst/>
            <a:rect l="l" t="t" r="r" b="b"/>
            <a:pathLst>
              <a:path w="1550193" h="1493043">
                <a:moveTo>
                  <a:pt x="745331" y="1138237"/>
                </a:moveTo>
                <a:lnTo>
                  <a:pt x="850106" y="1076325"/>
                </a:lnTo>
                <a:lnTo>
                  <a:pt x="945356" y="1014412"/>
                </a:lnTo>
                <a:lnTo>
                  <a:pt x="1040606" y="942975"/>
                </a:lnTo>
                <a:lnTo>
                  <a:pt x="1128712" y="864393"/>
                </a:lnTo>
                <a:lnTo>
                  <a:pt x="1207293" y="781050"/>
                </a:lnTo>
                <a:lnTo>
                  <a:pt x="1266825" y="702468"/>
                </a:lnTo>
                <a:lnTo>
                  <a:pt x="1316831" y="626268"/>
                </a:lnTo>
                <a:lnTo>
                  <a:pt x="1359693" y="533400"/>
                </a:lnTo>
                <a:lnTo>
                  <a:pt x="1378743" y="469106"/>
                </a:lnTo>
                <a:lnTo>
                  <a:pt x="1388268" y="392906"/>
                </a:lnTo>
                <a:lnTo>
                  <a:pt x="1388268" y="316706"/>
                </a:lnTo>
                <a:lnTo>
                  <a:pt x="1369218" y="226218"/>
                </a:lnTo>
                <a:lnTo>
                  <a:pt x="1345406" y="166687"/>
                </a:lnTo>
                <a:lnTo>
                  <a:pt x="1297781" y="90487"/>
                </a:lnTo>
                <a:lnTo>
                  <a:pt x="1264443" y="50006"/>
                </a:lnTo>
                <a:lnTo>
                  <a:pt x="1393031" y="0"/>
                </a:lnTo>
                <a:lnTo>
                  <a:pt x="1416843" y="33337"/>
                </a:lnTo>
                <a:lnTo>
                  <a:pt x="1457325" y="88106"/>
                </a:lnTo>
                <a:lnTo>
                  <a:pt x="1483518" y="138112"/>
                </a:lnTo>
                <a:lnTo>
                  <a:pt x="1504950" y="190500"/>
                </a:lnTo>
                <a:lnTo>
                  <a:pt x="1526381" y="247650"/>
                </a:lnTo>
                <a:lnTo>
                  <a:pt x="1540668" y="304800"/>
                </a:lnTo>
                <a:lnTo>
                  <a:pt x="1545431" y="361950"/>
                </a:lnTo>
                <a:lnTo>
                  <a:pt x="1550193" y="431006"/>
                </a:lnTo>
                <a:lnTo>
                  <a:pt x="1545431" y="488156"/>
                </a:lnTo>
                <a:lnTo>
                  <a:pt x="1535906" y="554831"/>
                </a:lnTo>
                <a:lnTo>
                  <a:pt x="1514475" y="635793"/>
                </a:lnTo>
                <a:lnTo>
                  <a:pt x="1478756" y="726281"/>
                </a:lnTo>
                <a:lnTo>
                  <a:pt x="1428750" y="814387"/>
                </a:lnTo>
                <a:lnTo>
                  <a:pt x="1366837" y="895350"/>
                </a:lnTo>
                <a:lnTo>
                  <a:pt x="1259681" y="1009650"/>
                </a:lnTo>
                <a:lnTo>
                  <a:pt x="1159668" y="1092993"/>
                </a:lnTo>
                <a:lnTo>
                  <a:pt x="1081087" y="1143000"/>
                </a:lnTo>
                <a:lnTo>
                  <a:pt x="964406" y="1209675"/>
                </a:lnTo>
                <a:lnTo>
                  <a:pt x="809625" y="1281112"/>
                </a:lnTo>
                <a:lnTo>
                  <a:pt x="657225" y="1335881"/>
                </a:lnTo>
                <a:lnTo>
                  <a:pt x="497681" y="1385887"/>
                </a:lnTo>
                <a:lnTo>
                  <a:pt x="202406" y="1459706"/>
                </a:lnTo>
                <a:lnTo>
                  <a:pt x="66675" y="1488281"/>
                </a:lnTo>
                <a:lnTo>
                  <a:pt x="35718" y="1493043"/>
                </a:lnTo>
                <a:lnTo>
                  <a:pt x="16668" y="1488281"/>
                </a:lnTo>
                <a:lnTo>
                  <a:pt x="2381" y="1478756"/>
                </a:lnTo>
                <a:lnTo>
                  <a:pt x="0" y="1464468"/>
                </a:lnTo>
                <a:lnTo>
                  <a:pt x="7143" y="1443037"/>
                </a:lnTo>
                <a:lnTo>
                  <a:pt x="26193" y="1423987"/>
                </a:lnTo>
                <a:lnTo>
                  <a:pt x="78581" y="1404937"/>
                </a:lnTo>
                <a:lnTo>
                  <a:pt x="228600" y="1362075"/>
                </a:lnTo>
                <a:lnTo>
                  <a:pt x="416718" y="1288256"/>
                </a:lnTo>
                <a:lnTo>
                  <a:pt x="600075" y="1214437"/>
                </a:lnTo>
                <a:cubicBezTo>
                  <a:pt x="638969" y="1197768"/>
                  <a:pt x="625872" y="1200943"/>
                  <a:pt x="650081" y="1188243"/>
                </a:cubicBezTo>
                <a:cubicBezTo>
                  <a:pt x="674290" y="1175543"/>
                  <a:pt x="711994" y="1156890"/>
                  <a:pt x="745331" y="113823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04:54:07Z</dcterms:modified>
  <cp:revision>149</cp:revision>
  <dc:subject/>
  <dc:title>スライド 1</dc:title>
</cp:coreProperties>
</file>