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13E7-DFEB-4C16-A6C7-C9BF9A4A4E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DFFC-9A31-4B40-9F16-3CA3F6233A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1B0-8930-431D-80C8-FAB789DC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45E-C18A-4E3F-81B2-2F940D99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B98-DEC0-47DB-9594-7E7ADDF0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4CB-2318-48FC-9022-91692DF4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1FA-D290-48C5-8677-F9519E7E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D5B-A484-43FD-ADF8-EF177B7F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C35-DA67-4293-97CD-4061989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8E5-9B06-44B9-AD70-0F0CC4BF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0F6-9615-4A15-8A70-11D8F223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DFF-86B6-4049-BD9F-615351E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B00-0853-415F-9513-BBE472AB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B99-B712-43B7-AAA7-276E6C80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6485-AA73-4510-96C4-301A45F2B3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842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10"/>
          <p:cNvSpPr/>
          <p:nvPr/>
        </p:nvSpPr>
        <p:spPr>
          <a:xfrm>
            <a:off x="2975040" y="2181240"/>
            <a:ext cx="3698640" cy="755640"/>
          </a:xfrm>
          <a:custGeom>
            <a:avLst/>
            <a:gdLst/>
            <a:ahLst/>
            <a:rect l="l" t="t" r="r" b="b"/>
            <a:pathLst>
              <a:path w="3698875" h="755650">
                <a:moveTo>
                  <a:pt x="1539875" y="282575"/>
                </a:moveTo>
                <a:lnTo>
                  <a:pt x="1231900" y="330200"/>
                </a:lnTo>
                <a:lnTo>
                  <a:pt x="962025" y="374650"/>
                </a:lnTo>
                <a:lnTo>
                  <a:pt x="660400" y="431800"/>
                </a:lnTo>
                <a:lnTo>
                  <a:pt x="441325" y="469900"/>
                </a:lnTo>
                <a:lnTo>
                  <a:pt x="342900" y="479425"/>
                </a:lnTo>
                <a:lnTo>
                  <a:pt x="203200" y="485775"/>
                </a:lnTo>
                <a:lnTo>
                  <a:pt x="101600" y="485775"/>
                </a:lnTo>
                <a:lnTo>
                  <a:pt x="15875" y="488950"/>
                </a:lnTo>
                <a:lnTo>
                  <a:pt x="0" y="504825"/>
                </a:lnTo>
                <a:lnTo>
                  <a:pt x="12700" y="539750"/>
                </a:lnTo>
                <a:lnTo>
                  <a:pt x="57150" y="574675"/>
                </a:lnTo>
                <a:lnTo>
                  <a:pt x="168275" y="631825"/>
                </a:lnTo>
                <a:lnTo>
                  <a:pt x="263525" y="695325"/>
                </a:lnTo>
                <a:lnTo>
                  <a:pt x="358775" y="755650"/>
                </a:lnTo>
                <a:lnTo>
                  <a:pt x="371475" y="755650"/>
                </a:lnTo>
                <a:lnTo>
                  <a:pt x="482600" y="720725"/>
                </a:lnTo>
                <a:lnTo>
                  <a:pt x="704850" y="660400"/>
                </a:lnTo>
                <a:lnTo>
                  <a:pt x="962025" y="596900"/>
                </a:lnTo>
                <a:lnTo>
                  <a:pt x="1193800" y="542925"/>
                </a:lnTo>
                <a:lnTo>
                  <a:pt x="1416050" y="492125"/>
                </a:lnTo>
                <a:lnTo>
                  <a:pt x="1628775" y="450850"/>
                </a:lnTo>
                <a:lnTo>
                  <a:pt x="1854200" y="409575"/>
                </a:lnTo>
                <a:lnTo>
                  <a:pt x="2127250" y="361950"/>
                </a:lnTo>
                <a:lnTo>
                  <a:pt x="2359025" y="333375"/>
                </a:lnTo>
                <a:lnTo>
                  <a:pt x="2622550" y="301625"/>
                </a:lnTo>
                <a:lnTo>
                  <a:pt x="2857500" y="276225"/>
                </a:lnTo>
                <a:lnTo>
                  <a:pt x="3032125" y="260350"/>
                </a:lnTo>
                <a:lnTo>
                  <a:pt x="3140075" y="247650"/>
                </a:lnTo>
                <a:lnTo>
                  <a:pt x="3190875" y="247650"/>
                </a:lnTo>
                <a:lnTo>
                  <a:pt x="3222625" y="257175"/>
                </a:lnTo>
                <a:lnTo>
                  <a:pt x="3254375" y="279400"/>
                </a:lnTo>
                <a:lnTo>
                  <a:pt x="3263900" y="304800"/>
                </a:lnTo>
                <a:lnTo>
                  <a:pt x="3260725" y="333375"/>
                </a:lnTo>
                <a:lnTo>
                  <a:pt x="3267075" y="358775"/>
                </a:lnTo>
                <a:lnTo>
                  <a:pt x="3613150" y="355600"/>
                </a:lnTo>
                <a:lnTo>
                  <a:pt x="3629025" y="336550"/>
                </a:lnTo>
                <a:lnTo>
                  <a:pt x="3663950" y="314325"/>
                </a:lnTo>
                <a:lnTo>
                  <a:pt x="3698875" y="279400"/>
                </a:lnTo>
                <a:lnTo>
                  <a:pt x="3692525" y="241300"/>
                </a:lnTo>
                <a:lnTo>
                  <a:pt x="3651250" y="209550"/>
                </a:lnTo>
                <a:lnTo>
                  <a:pt x="3540125" y="133350"/>
                </a:lnTo>
                <a:lnTo>
                  <a:pt x="3381375" y="22225"/>
                </a:lnTo>
                <a:lnTo>
                  <a:pt x="3327400" y="0"/>
                </a:lnTo>
                <a:lnTo>
                  <a:pt x="3273425" y="19050"/>
                </a:lnTo>
                <a:lnTo>
                  <a:pt x="3225800" y="44450"/>
                </a:lnTo>
                <a:lnTo>
                  <a:pt x="3105150" y="57150"/>
                </a:lnTo>
                <a:lnTo>
                  <a:pt x="2717800" y="107950"/>
                </a:lnTo>
                <a:lnTo>
                  <a:pt x="2378075" y="155575"/>
                </a:lnTo>
                <a:lnTo>
                  <a:pt x="2092325" y="200025"/>
                </a:lnTo>
                <a:lnTo>
                  <a:pt x="1844675" y="238125"/>
                </a:lnTo>
                <a:lnTo>
                  <a:pt x="1625600" y="269875"/>
                </a:lnTo>
                <a:lnTo>
                  <a:pt x="1539875" y="2825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11"/>
          <p:cNvSpPr/>
          <p:nvPr/>
        </p:nvSpPr>
        <p:spPr>
          <a:xfrm>
            <a:off x="3905280" y="2495520"/>
            <a:ext cx="2695680" cy="3224160"/>
          </a:xfrm>
          <a:custGeom>
            <a:avLst/>
            <a:gdLst/>
            <a:ahLst/>
            <a:rect l="l" t="t" r="r" b="b"/>
            <a:pathLst>
              <a:path w="2695575" h="3224213">
                <a:moveTo>
                  <a:pt x="2547938" y="333375"/>
                </a:moveTo>
                <a:lnTo>
                  <a:pt x="2600325" y="219075"/>
                </a:lnTo>
                <a:lnTo>
                  <a:pt x="2652713" y="104775"/>
                </a:lnTo>
                <a:lnTo>
                  <a:pt x="2695575" y="0"/>
                </a:lnTo>
                <a:lnTo>
                  <a:pt x="2333625" y="4763"/>
                </a:lnTo>
                <a:lnTo>
                  <a:pt x="2319338" y="42863"/>
                </a:lnTo>
                <a:lnTo>
                  <a:pt x="2281238" y="128588"/>
                </a:lnTo>
                <a:lnTo>
                  <a:pt x="2219325" y="280988"/>
                </a:lnTo>
                <a:lnTo>
                  <a:pt x="2166938" y="400050"/>
                </a:lnTo>
                <a:lnTo>
                  <a:pt x="2090738" y="571500"/>
                </a:lnTo>
                <a:lnTo>
                  <a:pt x="2009775" y="742950"/>
                </a:lnTo>
                <a:lnTo>
                  <a:pt x="1924050" y="909638"/>
                </a:lnTo>
                <a:lnTo>
                  <a:pt x="1824038" y="1081088"/>
                </a:lnTo>
                <a:lnTo>
                  <a:pt x="1719263" y="1262063"/>
                </a:lnTo>
                <a:lnTo>
                  <a:pt x="1628775" y="1400175"/>
                </a:lnTo>
                <a:lnTo>
                  <a:pt x="1524000" y="1566863"/>
                </a:lnTo>
                <a:lnTo>
                  <a:pt x="1352550" y="1800225"/>
                </a:lnTo>
                <a:lnTo>
                  <a:pt x="1252538" y="1924050"/>
                </a:lnTo>
                <a:lnTo>
                  <a:pt x="1138238" y="2076450"/>
                </a:lnTo>
                <a:lnTo>
                  <a:pt x="938213" y="2300288"/>
                </a:lnTo>
                <a:lnTo>
                  <a:pt x="814388" y="2433638"/>
                </a:lnTo>
                <a:lnTo>
                  <a:pt x="642938" y="2609850"/>
                </a:lnTo>
                <a:lnTo>
                  <a:pt x="514350" y="2738438"/>
                </a:lnTo>
                <a:lnTo>
                  <a:pt x="357188" y="2881313"/>
                </a:lnTo>
                <a:lnTo>
                  <a:pt x="223838" y="2995613"/>
                </a:lnTo>
                <a:lnTo>
                  <a:pt x="100013" y="3105150"/>
                </a:lnTo>
                <a:lnTo>
                  <a:pt x="28575" y="3162300"/>
                </a:lnTo>
                <a:lnTo>
                  <a:pt x="0" y="3205163"/>
                </a:lnTo>
                <a:lnTo>
                  <a:pt x="9525" y="3219450"/>
                </a:lnTo>
                <a:lnTo>
                  <a:pt x="42863" y="3224213"/>
                </a:lnTo>
                <a:lnTo>
                  <a:pt x="133350" y="3167063"/>
                </a:lnTo>
                <a:lnTo>
                  <a:pt x="342900" y="3024188"/>
                </a:lnTo>
                <a:lnTo>
                  <a:pt x="481013" y="2914650"/>
                </a:lnTo>
                <a:lnTo>
                  <a:pt x="642938" y="2786063"/>
                </a:lnTo>
                <a:lnTo>
                  <a:pt x="790575" y="2662238"/>
                </a:lnTo>
                <a:lnTo>
                  <a:pt x="1009650" y="2466975"/>
                </a:lnTo>
                <a:lnTo>
                  <a:pt x="1176338" y="2305050"/>
                </a:lnTo>
                <a:lnTo>
                  <a:pt x="1323975" y="2147888"/>
                </a:lnTo>
                <a:lnTo>
                  <a:pt x="1457325" y="2005013"/>
                </a:lnTo>
                <a:lnTo>
                  <a:pt x="1581150" y="1862138"/>
                </a:lnTo>
                <a:lnTo>
                  <a:pt x="1724025" y="1685925"/>
                </a:lnTo>
                <a:lnTo>
                  <a:pt x="1833563" y="1538288"/>
                </a:lnTo>
                <a:lnTo>
                  <a:pt x="1966913" y="1347788"/>
                </a:lnTo>
                <a:lnTo>
                  <a:pt x="2071688" y="1181100"/>
                </a:lnTo>
                <a:lnTo>
                  <a:pt x="2162175" y="1033463"/>
                </a:lnTo>
                <a:lnTo>
                  <a:pt x="2243138" y="895350"/>
                </a:lnTo>
                <a:lnTo>
                  <a:pt x="2343150" y="719138"/>
                </a:lnTo>
                <a:lnTo>
                  <a:pt x="2486025" y="447675"/>
                </a:lnTo>
                <a:lnTo>
                  <a:pt x="2547938" y="3333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8"/>
          <p:cNvSpPr/>
          <p:nvPr/>
        </p:nvSpPr>
        <p:spPr>
          <a:xfrm rot="1200000">
            <a:off x="6534000" y="1872720"/>
            <a:ext cx="424080" cy="400320"/>
          </a:xfrm>
          <a:custGeom>
            <a:avLst/>
            <a:gdLst/>
            <a:ahLst/>
            <a:rect l="l" t="t" r="r" b="b"/>
            <a:pathLst>
              <a:path w="423862" h="400050">
                <a:moveTo>
                  <a:pt x="423862" y="290513"/>
                </a:moveTo>
                <a:lnTo>
                  <a:pt x="345281" y="280988"/>
                </a:lnTo>
                <a:lnTo>
                  <a:pt x="280987" y="257175"/>
                </a:lnTo>
                <a:lnTo>
                  <a:pt x="219075" y="214313"/>
                </a:lnTo>
                <a:lnTo>
                  <a:pt x="192881" y="188119"/>
                </a:lnTo>
                <a:lnTo>
                  <a:pt x="164306" y="152400"/>
                </a:lnTo>
                <a:lnTo>
                  <a:pt x="147637" y="126206"/>
                </a:lnTo>
                <a:lnTo>
                  <a:pt x="128587" y="80963"/>
                </a:lnTo>
                <a:lnTo>
                  <a:pt x="119062" y="42863"/>
                </a:lnTo>
                <a:lnTo>
                  <a:pt x="114300" y="14288"/>
                </a:lnTo>
                <a:lnTo>
                  <a:pt x="114300" y="0"/>
                </a:lnTo>
                <a:lnTo>
                  <a:pt x="0" y="0"/>
                </a:lnTo>
                <a:lnTo>
                  <a:pt x="2381" y="28575"/>
                </a:lnTo>
                <a:lnTo>
                  <a:pt x="9525" y="71438"/>
                </a:lnTo>
                <a:lnTo>
                  <a:pt x="21431" y="116681"/>
                </a:lnTo>
                <a:lnTo>
                  <a:pt x="35719" y="152400"/>
                </a:lnTo>
                <a:lnTo>
                  <a:pt x="59531" y="195263"/>
                </a:lnTo>
                <a:lnTo>
                  <a:pt x="83344" y="230981"/>
                </a:lnTo>
                <a:lnTo>
                  <a:pt x="123825" y="280988"/>
                </a:lnTo>
                <a:lnTo>
                  <a:pt x="166687" y="316706"/>
                </a:lnTo>
                <a:lnTo>
                  <a:pt x="207169" y="350044"/>
                </a:lnTo>
                <a:lnTo>
                  <a:pt x="261937" y="373856"/>
                </a:lnTo>
                <a:lnTo>
                  <a:pt x="311944" y="390525"/>
                </a:lnTo>
                <a:lnTo>
                  <a:pt x="366712" y="397669"/>
                </a:lnTo>
                <a:lnTo>
                  <a:pt x="411956" y="400050"/>
                </a:lnTo>
                <a:lnTo>
                  <a:pt x="423862" y="400050"/>
                </a:lnTo>
                <a:lnTo>
                  <a:pt x="423862" y="2905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 rot="1200000">
            <a:off x="6676560" y="1450800"/>
            <a:ext cx="424080" cy="459000"/>
          </a:xfrm>
          <a:custGeom>
            <a:avLst/>
            <a:gdLst/>
            <a:ahLst/>
            <a:rect l="l" t="t" r="r" b="b"/>
            <a:pathLst>
              <a:path w="423862" h="459581">
                <a:moveTo>
                  <a:pt x="423862" y="0"/>
                </a:moveTo>
                <a:lnTo>
                  <a:pt x="364331" y="2381"/>
                </a:lnTo>
                <a:lnTo>
                  <a:pt x="319087" y="11906"/>
                </a:lnTo>
                <a:lnTo>
                  <a:pt x="261937" y="30956"/>
                </a:lnTo>
                <a:lnTo>
                  <a:pt x="223837" y="47625"/>
                </a:lnTo>
                <a:lnTo>
                  <a:pt x="192881" y="64294"/>
                </a:lnTo>
                <a:lnTo>
                  <a:pt x="169069" y="80963"/>
                </a:lnTo>
                <a:lnTo>
                  <a:pt x="135731" y="109538"/>
                </a:lnTo>
                <a:lnTo>
                  <a:pt x="102394" y="147638"/>
                </a:lnTo>
                <a:lnTo>
                  <a:pt x="73819" y="185738"/>
                </a:lnTo>
                <a:lnTo>
                  <a:pt x="45244" y="233363"/>
                </a:lnTo>
                <a:lnTo>
                  <a:pt x="28575" y="273844"/>
                </a:lnTo>
                <a:lnTo>
                  <a:pt x="9525" y="345281"/>
                </a:lnTo>
                <a:lnTo>
                  <a:pt x="4762" y="390525"/>
                </a:lnTo>
                <a:lnTo>
                  <a:pt x="2381" y="435769"/>
                </a:lnTo>
                <a:lnTo>
                  <a:pt x="0" y="459581"/>
                </a:lnTo>
                <a:lnTo>
                  <a:pt x="116681" y="457200"/>
                </a:lnTo>
                <a:lnTo>
                  <a:pt x="116681" y="414338"/>
                </a:lnTo>
                <a:lnTo>
                  <a:pt x="119062" y="366713"/>
                </a:lnTo>
                <a:lnTo>
                  <a:pt x="123825" y="340519"/>
                </a:lnTo>
                <a:lnTo>
                  <a:pt x="133350" y="307181"/>
                </a:lnTo>
                <a:lnTo>
                  <a:pt x="154781" y="264319"/>
                </a:lnTo>
                <a:lnTo>
                  <a:pt x="188119" y="216694"/>
                </a:lnTo>
                <a:lnTo>
                  <a:pt x="221456" y="188119"/>
                </a:lnTo>
                <a:lnTo>
                  <a:pt x="252412" y="164306"/>
                </a:lnTo>
                <a:lnTo>
                  <a:pt x="295275" y="138113"/>
                </a:lnTo>
                <a:lnTo>
                  <a:pt x="342900" y="121444"/>
                </a:lnTo>
                <a:lnTo>
                  <a:pt x="381000" y="114300"/>
                </a:lnTo>
                <a:lnTo>
                  <a:pt x="423862" y="114300"/>
                </a:lnTo>
                <a:lnTo>
                  <a:pt x="4238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9"/>
          <p:cNvSpPr/>
          <p:nvPr/>
        </p:nvSpPr>
        <p:spPr>
          <a:xfrm rot="1200000">
            <a:off x="7056000" y="1595520"/>
            <a:ext cx="447840" cy="460440"/>
          </a:xfrm>
          <a:custGeom>
            <a:avLst/>
            <a:gdLst/>
            <a:ahLst/>
            <a:rect l="l" t="t" r="r" b="b"/>
            <a:pathLst>
              <a:path w="447675" h="459582">
                <a:moveTo>
                  <a:pt x="302419" y="102394"/>
                </a:moveTo>
                <a:lnTo>
                  <a:pt x="259557" y="66675"/>
                </a:lnTo>
                <a:lnTo>
                  <a:pt x="238125" y="52388"/>
                </a:lnTo>
                <a:lnTo>
                  <a:pt x="207169" y="38100"/>
                </a:lnTo>
                <a:lnTo>
                  <a:pt x="171450" y="21432"/>
                </a:lnTo>
                <a:lnTo>
                  <a:pt x="138113" y="11907"/>
                </a:lnTo>
                <a:lnTo>
                  <a:pt x="92869" y="2382"/>
                </a:lnTo>
                <a:lnTo>
                  <a:pt x="66675" y="0"/>
                </a:lnTo>
                <a:lnTo>
                  <a:pt x="47625" y="0"/>
                </a:lnTo>
                <a:lnTo>
                  <a:pt x="2382" y="0"/>
                </a:lnTo>
                <a:lnTo>
                  <a:pt x="0" y="111919"/>
                </a:lnTo>
                <a:lnTo>
                  <a:pt x="59532" y="114300"/>
                </a:lnTo>
                <a:lnTo>
                  <a:pt x="95250" y="119063"/>
                </a:lnTo>
                <a:lnTo>
                  <a:pt x="133350" y="126207"/>
                </a:lnTo>
                <a:lnTo>
                  <a:pt x="161925" y="140494"/>
                </a:lnTo>
                <a:lnTo>
                  <a:pt x="192882" y="159544"/>
                </a:lnTo>
                <a:lnTo>
                  <a:pt x="223838" y="183357"/>
                </a:lnTo>
                <a:lnTo>
                  <a:pt x="245269" y="202407"/>
                </a:lnTo>
                <a:lnTo>
                  <a:pt x="261938" y="221457"/>
                </a:lnTo>
                <a:lnTo>
                  <a:pt x="280988" y="247650"/>
                </a:lnTo>
                <a:lnTo>
                  <a:pt x="297657" y="271463"/>
                </a:lnTo>
                <a:lnTo>
                  <a:pt x="314325" y="314325"/>
                </a:lnTo>
                <a:lnTo>
                  <a:pt x="321469" y="338138"/>
                </a:lnTo>
                <a:lnTo>
                  <a:pt x="328613" y="373857"/>
                </a:lnTo>
                <a:lnTo>
                  <a:pt x="335757" y="411957"/>
                </a:lnTo>
                <a:lnTo>
                  <a:pt x="335757" y="445294"/>
                </a:lnTo>
                <a:lnTo>
                  <a:pt x="335757" y="457200"/>
                </a:lnTo>
                <a:lnTo>
                  <a:pt x="447675" y="459582"/>
                </a:lnTo>
                <a:lnTo>
                  <a:pt x="445294" y="414338"/>
                </a:lnTo>
                <a:lnTo>
                  <a:pt x="442913" y="369094"/>
                </a:lnTo>
                <a:lnTo>
                  <a:pt x="433388" y="321469"/>
                </a:lnTo>
                <a:lnTo>
                  <a:pt x="423863" y="288132"/>
                </a:lnTo>
                <a:lnTo>
                  <a:pt x="414338" y="254794"/>
                </a:lnTo>
                <a:lnTo>
                  <a:pt x="390525" y="214313"/>
                </a:lnTo>
                <a:lnTo>
                  <a:pt x="369094" y="178594"/>
                </a:lnTo>
                <a:lnTo>
                  <a:pt x="350044" y="154782"/>
                </a:lnTo>
                <a:lnTo>
                  <a:pt x="338138" y="138113"/>
                </a:lnTo>
                <a:lnTo>
                  <a:pt x="302419" y="102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2"/>
          <p:cNvSpPr/>
          <p:nvPr/>
        </p:nvSpPr>
        <p:spPr>
          <a:xfrm rot="1200000">
            <a:off x="6919920" y="2009520"/>
            <a:ext cx="439560" cy="406440"/>
          </a:xfrm>
          <a:custGeom>
            <a:avLst/>
            <a:gdLst/>
            <a:ahLst/>
            <a:rect l="l" t="t" r="r" b="b"/>
            <a:pathLst>
              <a:path w="440531" h="407194">
                <a:moveTo>
                  <a:pt x="202406" y="235744"/>
                </a:moveTo>
                <a:lnTo>
                  <a:pt x="240506" y="202407"/>
                </a:lnTo>
                <a:lnTo>
                  <a:pt x="261937" y="178594"/>
                </a:lnTo>
                <a:lnTo>
                  <a:pt x="276225" y="161925"/>
                </a:lnTo>
                <a:lnTo>
                  <a:pt x="288131" y="142875"/>
                </a:lnTo>
                <a:lnTo>
                  <a:pt x="302419" y="116682"/>
                </a:lnTo>
                <a:lnTo>
                  <a:pt x="311944" y="95250"/>
                </a:lnTo>
                <a:lnTo>
                  <a:pt x="321469" y="71438"/>
                </a:lnTo>
                <a:lnTo>
                  <a:pt x="328612" y="45244"/>
                </a:lnTo>
                <a:lnTo>
                  <a:pt x="330994" y="26194"/>
                </a:lnTo>
                <a:lnTo>
                  <a:pt x="330994" y="14288"/>
                </a:lnTo>
                <a:lnTo>
                  <a:pt x="330994" y="0"/>
                </a:lnTo>
                <a:lnTo>
                  <a:pt x="438150" y="2382"/>
                </a:lnTo>
                <a:lnTo>
                  <a:pt x="440531" y="2382"/>
                </a:lnTo>
                <a:lnTo>
                  <a:pt x="440531" y="38100"/>
                </a:lnTo>
                <a:lnTo>
                  <a:pt x="435769" y="61913"/>
                </a:lnTo>
                <a:lnTo>
                  <a:pt x="431006" y="92869"/>
                </a:lnTo>
                <a:lnTo>
                  <a:pt x="421481" y="126207"/>
                </a:lnTo>
                <a:lnTo>
                  <a:pt x="404812" y="166688"/>
                </a:lnTo>
                <a:lnTo>
                  <a:pt x="381000" y="204788"/>
                </a:lnTo>
                <a:lnTo>
                  <a:pt x="350044" y="252413"/>
                </a:lnTo>
                <a:lnTo>
                  <a:pt x="316706" y="285750"/>
                </a:lnTo>
                <a:lnTo>
                  <a:pt x="283369" y="316707"/>
                </a:lnTo>
                <a:lnTo>
                  <a:pt x="252412" y="342900"/>
                </a:lnTo>
                <a:lnTo>
                  <a:pt x="211931" y="366713"/>
                </a:lnTo>
                <a:lnTo>
                  <a:pt x="173831" y="383382"/>
                </a:lnTo>
                <a:lnTo>
                  <a:pt x="128587" y="392907"/>
                </a:lnTo>
                <a:lnTo>
                  <a:pt x="90487" y="400050"/>
                </a:lnTo>
                <a:lnTo>
                  <a:pt x="69056" y="402432"/>
                </a:lnTo>
                <a:lnTo>
                  <a:pt x="50006" y="404813"/>
                </a:lnTo>
                <a:lnTo>
                  <a:pt x="33337" y="404813"/>
                </a:lnTo>
                <a:lnTo>
                  <a:pt x="2381" y="407194"/>
                </a:lnTo>
                <a:cubicBezTo>
                  <a:pt x="1587" y="369888"/>
                  <a:pt x="794" y="332581"/>
                  <a:pt x="0" y="295275"/>
                </a:cubicBezTo>
                <a:lnTo>
                  <a:pt x="26194" y="297657"/>
                </a:lnTo>
                <a:lnTo>
                  <a:pt x="52387" y="292894"/>
                </a:lnTo>
                <a:lnTo>
                  <a:pt x="97631" y="288132"/>
                </a:lnTo>
                <a:lnTo>
                  <a:pt x="126206" y="280988"/>
                </a:lnTo>
                <a:lnTo>
                  <a:pt x="152400" y="271463"/>
                </a:lnTo>
                <a:lnTo>
                  <a:pt x="202406" y="2357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 repeatCount="1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3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6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59:17Z</dcterms:modified>
  <cp:revision>52</cp:revision>
  <dc:subject/>
  <dc:title>スライド 1</dc:title>
</cp:coreProperties>
</file>