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F557-A709-4D4D-9F73-CC9BC6D53E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315F-9937-455D-9E5A-2097B476BE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878-52A1-4E64-98D8-B7BB91AD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C22-D135-443D-8DFC-B73970BB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AA5-0E7E-4F32-911C-99B8CC23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371-F6D4-4D04-9FC2-FC5EB668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96F-4B31-4D1E-A307-4152E005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2EB-30D9-4340-81EB-0B30DAD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0A3-F0D5-4758-B5D4-2120C712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B62-C6B9-47BB-8FF2-C7F6A05A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F89-C9F3-4F58-9538-3CBABD1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22D-50B4-4D96-A7FB-B8AA0FF8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5A5-7842-48B5-8874-50BB902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123-7D67-4CD3-9A1F-815CBAE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00FA-31BD-4A09-91A0-3F618B3F39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522600" y="3219480"/>
            <a:ext cx="2830680" cy="630360"/>
          </a:xfrm>
          <a:custGeom>
            <a:avLst/>
            <a:gdLst/>
            <a:ahLst/>
            <a:rect l="l" t="t" r="r" b="b"/>
            <a:pathLst>
              <a:path w="2831306" h="631031">
                <a:moveTo>
                  <a:pt x="933450" y="302419"/>
                </a:moveTo>
                <a:lnTo>
                  <a:pt x="2016919" y="119063"/>
                </a:lnTo>
                <a:lnTo>
                  <a:pt x="2355056" y="59531"/>
                </a:lnTo>
                <a:lnTo>
                  <a:pt x="2383631" y="54769"/>
                </a:lnTo>
                <a:lnTo>
                  <a:pt x="2409825" y="35719"/>
                </a:lnTo>
                <a:lnTo>
                  <a:pt x="2452687" y="9525"/>
                </a:lnTo>
                <a:lnTo>
                  <a:pt x="2471737" y="0"/>
                </a:lnTo>
                <a:lnTo>
                  <a:pt x="2488406" y="0"/>
                </a:lnTo>
                <a:lnTo>
                  <a:pt x="2538412" y="26194"/>
                </a:lnTo>
                <a:lnTo>
                  <a:pt x="2752725" y="121444"/>
                </a:lnTo>
                <a:lnTo>
                  <a:pt x="2805112" y="140494"/>
                </a:lnTo>
                <a:lnTo>
                  <a:pt x="2826544" y="154781"/>
                </a:lnTo>
                <a:lnTo>
                  <a:pt x="2831306" y="171450"/>
                </a:lnTo>
                <a:lnTo>
                  <a:pt x="2831306" y="183356"/>
                </a:lnTo>
                <a:lnTo>
                  <a:pt x="2821781" y="209550"/>
                </a:lnTo>
                <a:lnTo>
                  <a:pt x="2800350" y="226219"/>
                </a:lnTo>
                <a:lnTo>
                  <a:pt x="2762250" y="242888"/>
                </a:lnTo>
                <a:lnTo>
                  <a:pt x="2738437" y="257175"/>
                </a:lnTo>
                <a:lnTo>
                  <a:pt x="2409825" y="250031"/>
                </a:lnTo>
                <a:lnTo>
                  <a:pt x="2409825" y="245269"/>
                </a:lnTo>
                <a:lnTo>
                  <a:pt x="2409825" y="235744"/>
                </a:lnTo>
                <a:lnTo>
                  <a:pt x="2407444" y="230981"/>
                </a:lnTo>
                <a:lnTo>
                  <a:pt x="2397919" y="216694"/>
                </a:lnTo>
                <a:lnTo>
                  <a:pt x="2386012" y="207169"/>
                </a:lnTo>
                <a:lnTo>
                  <a:pt x="2369344" y="192881"/>
                </a:lnTo>
                <a:lnTo>
                  <a:pt x="2343150" y="190500"/>
                </a:lnTo>
                <a:lnTo>
                  <a:pt x="2283619" y="207169"/>
                </a:lnTo>
                <a:lnTo>
                  <a:pt x="1669256" y="328613"/>
                </a:lnTo>
                <a:lnTo>
                  <a:pt x="1100137" y="442913"/>
                </a:lnTo>
                <a:lnTo>
                  <a:pt x="781050" y="509588"/>
                </a:lnTo>
                <a:lnTo>
                  <a:pt x="628650" y="542925"/>
                </a:lnTo>
                <a:lnTo>
                  <a:pt x="509587" y="576263"/>
                </a:lnTo>
                <a:lnTo>
                  <a:pt x="438150" y="600075"/>
                </a:lnTo>
                <a:lnTo>
                  <a:pt x="369094" y="626269"/>
                </a:lnTo>
                <a:lnTo>
                  <a:pt x="354806" y="631031"/>
                </a:lnTo>
                <a:lnTo>
                  <a:pt x="342900" y="631031"/>
                </a:lnTo>
                <a:lnTo>
                  <a:pt x="285750" y="604838"/>
                </a:lnTo>
                <a:lnTo>
                  <a:pt x="200025" y="557213"/>
                </a:lnTo>
                <a:lnTo>
                  <a:pt x="142875" y="516731"/>
                </a:lnTo>
                <a:lnTo>
                  <a:pt x="107156" y="485775"/>
                </a:lnTo>
                <a:lnTo>
                  <a:pt x="35719" y="433388"/>
                </a:lnTo>
                <a:lnTo>
                  <a:pt x="11906" y="407194"/>
                </a:lnTo>
                <a:lnTo>
                  <a:pt x="4762" y="383381"/>
                </a:lnTo>
                <a:lnTo>
                  <a:pt x="0" y="345281"/>
                </a:lnTo>
                <a:lnTo>
                  <a:pt x="7144" y="335756"/>
                </a:lnTo>
                <a:lnTo>
                  <a:pt x="21431" y="330994"/>
                </a:lnTo>
                <a:lnTo>
                  <a:pt x="40481" y="335756"/>
                </a:lnTo>
                <a:lnTo>
                  <a:pt x="80962" y="352425"/>
                </a:lnTo>
                <a:lnTo>
                  <a:pt x="154781" y="371475"/>
                </a:lnTo>
                <a:lnTo>
                  <a:pt x="276225" y="390525"/>
                </a:lnTo>
                <a:lnTo>
                  <a:pt x="345281" y="392906"/>
                </a:lnTo>
                <a:lnTo>
                  <a:pt x="392906" y="392906"/>
                </a:lnTo>
                <a:cubicBezTo>
                  <a:pt x="401240" y="393303"/>
                  <a:pt x="368300" y="399653"/>
                  <a:pt x="395287" y="395288"/>
                </a:cubicBezTo>
                <a:lnTo>
                  <a:pt x="554831" y="366713"/>
                </a:lnTo>
                <a:lnTo>
                  <a:pt x="731044" y="338138"/>
                </a:lnTo>
                <a:lnTo>
                  <a:pt x="933450" y="3024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5114880" y="3452760"/>
            <a:ext cx="1157400" cy="870120"/>
          </a:xfrm>
          <a:custGeom>
            <a:avLst/>
            <a:gdLst/>
            <a:ahLst/>
            <a:rect l="l" t="t" r="r" b="b"/>
            <a:pathLst>
              <a:path w="1157288" h="869156">
                <a:moveTo>
                  <a:pt x="545306" y="535781"/>
                </a:moveTo>
                <a:lnTo>
                  <a:pt x="783431" y="352425"/>
                </a:lnTo>
                <a:lnTo>
                  <a:pt x="945356" y="214312"/>
                </a:lnTo>
                <a:lnTo>
                  <a:pt x="1066800" y="100012"/>
                </a:lnTo>
                <a:lnTo>
                  <a:pt x="1133475" y="38100"/>
                </a:lnTo>
                <a:lnTo>
                  <a:pt x="1157288" y="11906"/>
                </a:lnTo>
                <a:lnTo>
                  <a:pt x="816769" y="0"/>
                </a:lnTo>
                <a:lnTo>
                  <a:pt x="819150" y="21431"/>
                </a:lnTo>
                <a:lnTo>
                  <a:pt x="814388" y="38100"/>
                </a:lnTo>
                <a:lnTo>
                  <a:pt x="802481" y="54768"/>
                </a:lnTo>
                <a:lnTo>
                  <a:pt x="752475" y="111918"/>
                </a:lnTo>
                <a:lnTo>
                  <a:pt x="459581" y="416718"/>
                </a:lnTo>
                <a:lnTo>
                  <a:pt x="261938" y="607218"/>
                </a:lnTo>
                <a:lnTo>
                  <a:pt x="104775" y="742950"/>
                </a:lnTo>
                <a:lnTo>
                  <a:pt x="21431" y="812006"/>
                </a:lnTo>
                <a:lnTo>
                  <a:pt x="0" y="840581"/>
                </a:lnTo>
                <a:lnTo>
                  <a:pt x="0" y="847725"/>
                </a:lnTo>
                <a:lnTo>
                  <a:pt x="2381" y="857250"/>
                </a:lnTo>
                <a:lnTo>
                  <a:pt x="9525" y="864393"/>
                </a:lnTo>
                <a:lnTo>
                  <a:pt x="19050" y="864393"/>
                </a:lnTo>
                <a:lnTo>
                  <a:pt x="40481" y="869156"/>
                </a:lnTo>
                <a:lnTo>
                  <a:pt x="71438" y="859631"/>
                </a:lnTo>
                <a:lnTo>
                  <a:pt x="180975" y="788193"/>
                </a:lnTo>
                <a:lnTo>
                  <a:pt x="338138" y="681037"/>
                </a:lnTo>
                <a:lnTo>
                  <a:pt x="545306" y="5357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9500000">
            <a:off x="3708000" y="4343040"/>
            <a:ext cx="1716120" cy="1160640"/>
          </a:xfrm>
          <a:custGeom>
            <a:avLst/>
            <a:gdLst/>
            <a:ahLst/>
            <a:rect l="l" t="t" r="r" b="b"/>
            <a:pathLst>
              <a:path w="1716881" h="1159668">
                <a:moveTo>
                  <a:pt x="1240631" y="726281"/>
                </a:moveTo>
                <a:lnTo>
                  <a:pt x="1435894" y="611981"/>
                </a:lnTo>
                <a:lnTo>
                  <a:pt x="1609725" y="497681"/>
                </a:lnTo>
                <a:lnTo>
                  <a:pt x="1685925" y="442912"/>
                </a:lnTo>
                <a:lnTo>
                  <a:pt x="1714500" y="411956"/>
                </a:lnTo>
                <a:lnTo>
                  <a:pt x="1716881" y="388143"/>
                </a:lnTo>
                <a:lnTo>
                  <a:pt x="1714500" y="354806"/>
                </a:lnTo>
                <a:lnTo>
                  <a:pt x="1702594" y="266700"/>
                </a:lnTo>
                <a:lnTo>
                  <a:pt x="1683544" y="188118"/>
                </a:lnTo>
                <a:lnTo>
                  <a:pt x="1652588" y="111918"/>
                </a:lnTo>
                <a:lnTo>
                  <a:pt x="1609725" y="42862"/>
                </a:lnTo>
                <a:lnTo>
                  <a:pt x="1585913" y="11906"/>
                </a:lnTo>
                <a:lnTo>
                  <a:pt x="1566863" y="0"/>
                </a:lnTo>
                <a:lnTo>
                  <a:pt x="1554956" y="0"/>
                </a:lnTo>
                <a:lnTo>
                  <a:pt x="1545431" y="9525"/>
                </a:lnTo>
                <a:lnTo>
                  <a:pt x="1533525" y="28575"/>
                </a:lnTo>
                <a:lnTo>
                  <a:pt x="1531144" y="42862"/>
                </a:lnTo>
                <a:lnTo>
                  <a:pt x="1533525" y="57150"/>
                </a:lnTo>
                <a:lnTo>
                  <a:pt x="1538288" y="78581"/>
                </a:lnTo>
                <a:lnTo>
                  <a:pt x="1540669" y="100012"/>
                </a:lnTo>
                <a:lnTo>
                  <a:pt x="1540669" y="119062"/>
                </a:lnTo>
                <a:lnTo>
                  <a:pt x="1538288" y="145256"/>
                </a:lnTo>
                <a:lnTo>
                  <a:pt x="1526381" y="188118"/>
                </a:lnTo>
                <a:lnTo>
                  <a:pt x="1502569" y="238125"/>
                </a:lnTo>
                <a:lnTo>
                  <a:pt x="1478756" y="283368"/>
                </a:lnTo>
                <a:lnTo>
                  <a:pt x="1428750" y="330993"/>
                </a:lnTo>
                <a:lnTo>
                  <a:pt x="1321594" y="419100"/>
                </a:lnTo>
                <a:lnTo>
                  <a:pt x="1159669" y="545306"/>
                </a:lnTo>
                <a:lnTo>
                  <a:pt x="1016794" y="650081"/>
                </a:lnTo>
                <a:lnTo>
                  <a:pt x="921544" y="711993"/>
                </a:lnTo>
                <a:lnTo>
                  <a:pt x="723900" y="826293"/>
                </a:lnTo>
                <a:lnTo>
                  <a:pt x="578644" y="897731"/>
                </a:lnTo>
                <a:lnTo>
                  <a:pt x="402431" y="971550"/>
                </a:lnTo>
                <a:lnTo>
                  <a:pt x="190500" y="1047750"/>
                </a:lnTo>
                <a:lnTo>
                  <a:pt x="47625" y="1092993"/>
                </a:lnTo>
                <a:lnTo>
                  <a:pt x="28575" y="1097756"/>
                </a:lnTo>
                <a:lnTo>
                  <a:pt x="9525" y="1114425"/>
                </a:lnTo>
                <a:lnTo>
                  <a:pt x="0" y="1126331"/>
                </a:lnTo>
                <a:lnTo>
                  <a:pt x="0" y="1135856"/>
                </a:lnTo>
                <a:lnTo>
                  <a:pt x="7144" y="1145381"/>
                </a:lnTo>
                <a:lnTo>
                  <a:pt x="26194" y="1154906"/>
                </a:lnTo>
                <a:lnTo>
                  <a:pt x="47625" y="1159668"/>
                </a:lnTo>
                <a:lnTo>
                  <a:pt x="95250" y="1152525"/>
                </a:lnTo>
                <a:lnTo>
                  <a:pt x="197644" y="1133475"/>
                </a:lnTo>
                <a:lnTo>
                  <a:pt x="381000" y="1092993"/>
                </a:lnTo>
                <a:lnTo>
                  <a:pt x="526256" y="1045368"/>
                </a:lnTo>
                <a:lnTo>
                  <a:pt x="738188" y="971550"/>
                </a:lnTo>
                <a:lnTo>
                  <a:pt x="978694" y="864393"/>
                </a:lnTo>
                <a:lnTo>
                  <a:pt x="1150144" y="776287"/>
                </a:lnTo>
                <a:lnTo>
                  <a:pt x="1240631" y="7262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21:56Z</dcterms:modified>
  <cp:revision>150</cp:revision>
  <dc:subject/>
  <dc:title>スライド 1</dc:title>
</cp:coreProperties>
</file>