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A90A-638D-4A22-8D1E-08D9128124A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0117-C327-4C7E-9FDA-EAC8B3ECC73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4525-2A8A-491B-9F4F-C43EA699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3D8C-62B9-4077-B6CB-DAA369D6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BBC0-1140-41A5-82F6-48B27C2A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268B-CE01-414D-B110-56912873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19E8-ECB2-4A6F-8559-CCAEDC70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3327-991B-47B6-97A2-65C42B82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5BBD-6A8F-48E5-8386-BBE45870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6B12-6B28-42E6-816A-EE29A280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140D-D817-40E7-B7FC-8B0F8FAE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00DB-5F30-4EA8-8BB5-9D031044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F15B-EDD2-4ACD-BD9E-75BA2A06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C151-2464-4D49-AD30-48460F16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3575-B2F5-4B31-9CF6-3888213D9C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2"/>
          <p:cNvSpPr/>
          <p:nvPr/>
        </p:nvSpPr>
        <p:spPr>
          <a:xfrm rot="16200000">
            <a:off x="3231360" y="3970800"/>
            <a:ext cx="2725560" cy="1152360"/>
          </a:xfrm>
          <a:custGeom>
            <a:avLst/>
            <a:gdLst/>
            <a:ahLst/>
            <a:rect l="l" t="t" r="r" b="b"/>
            <a:pathLst>
              <a:path w="2726531" h="1152525">
                <a:moveTo>
                  <a:pt x="1047750" y="557213"/>
                </a:moveTo>
                <a:lnTo>
                  <a:pt x="1726406" y="300038"/>
                </a:lnTo>
                <a:lnTo>
                  <a:pt x="2145506" y="150019"/>
                </a:lnTo>
                <a:lnTo>
                  <a:pt x="2481263" y="28575"/>
                </a:lnTo>
                <a:lnTo>
                  <a:pt x="2545556" y="7144"/>
                </a:lnTo>
                <a:lnTo>
                  <a:pt x="2590800" y="0"/>
                </a:lnTo>
                <a:lnTo>
                  <a:pt x="2628900" y="2381"/>
                </a:lnTo>
                <a:lnTo>
                  <a:pt x="2674144" y="7144"/>
                </a:lnTo>
                <a:lnTo>
                  <a:pt x="2712244" y="14288"/>
                </a:lnTo>
                <a:lnTo>
                  <a:pt x="2721769" y="21431"/>
                </a:lnTo>
                <a:lnTo>
                  <a:pt x="2726531" y="30956"/>
                </a:lnTo>
                <a:lnTo>
                  <a:pt x="2726531" y="38100"/>
                </a:lnTo>
                <a:lnTo>
                  <a:pt x="2724150" y="50006"/>
                </a:lnTo>
                <a:lnTo>
                  <a:pt x="2707481" y="73819"/>
                </a:lnTo>
                <a:lnTo>
                  <a:pt x="2624138" y="152400"/>
                </a:lnTo>
                <a:lnTo>
                  <a:pt x="2624138" y="152400"/>
                </a:lnTo>
                <a:lnTo>
                  <a:pt x="2547938" y="211931"/>
                </a:lnTo>
                <a:lnTo>
                  <a:pt x="2500313" y="226219"/>
                </a:lnTo>
                <a:lnTo>
                  <a:pt x="2088356" y="350044"/>
                </a:lnTo>
                <a:lnTo>
                  <a:pt x="1783556" y="438150"/>
                </a:lnTo>
                <a:lnTo>
                  <a:pt x="1574006" y="516731"/>
                </a:lnTo>
                <a:lnTo>
                  <a:pt x="1145381" y="688181"/>
                </a:lnTo>
                <a:lnTo>
                  <a:pt x="854869" y="816769"/>
                </a:lnTo>
                <a:lnTo>
                  <a:pt x="583406" y="950119"/>
                </a:lnTo>
                <a:lnTo>
                  <a:pt x="383381" y="1054894"/>
                </a:lnTo>
                <a:lnTo>
                  <a:pt x="240506" y="1143000"/>
                </a:lnTo>
                <a:lnTo>
                  <a:pt x="216694" y="1152525"/>
                </a:lnTo>
                <a:lnTo>
                  <a:pt x="166688" y="1152525"/>
                </a:lnTo>
                <a:lnTo>
                  <a:pt x="76200" y="1140619"/>
                </a:lnTo>
                <a:lnTo>
                  <a:pt x="30956" y="1128713"/>
                </a:lnTo>
                <a:lnTo>
                  <a:pt x="7144" y="1109663"/>
                </a:lnTo>
                <a:lnTo>
                  <a:pt x="0" y="1085850"/>
                </a:lnTo>
                <a:lnTo>
                  <a:pt x="7144" y="1054894"/>
                </a:lnTo>
                <a:lnTo>
                  <a:pt x="33338" y="1014413"/>
                </a:lnTo>
                <a:lnTo>
                  <a:pt x="71438" y="976313"/>
                </a:lnTo>
                <a:lnTo>
                  <a:pt x="161925" y="912019"/>
                </a:lnTo>
                <a:lnTo>
                  <a:pt x="297656" y="852488"/>
                </a:lnTo>
                <a:lnTo>
                  <a:pt x="726281" y="683419"/>
                </a:lnTo>
                <a:lnTo>
                  <a:pt x="1047750" y="5572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5"/>
          <p:cNvSpPr/>
          <p:nvPr/>
        </p:nvSpPr>
        <p:spPr>
          <a:xfrm>
            <a:off x="3348000" y="3695760"/>
            <a:ext cx="2624040" cy="1008000"/>
          </a:xfrm>
          <a:custGeom>
            <a:avLst/>
            <a:gdLst/>
            <a:ahLst/>
            <a:rect l="l" t="t" r="r" b="b"/>
            <a:pathLst>
              <a:path w="2624137" h="1007269">
                <a:moveTo>
                  <a:pt x="790575" y="571500"/>
                </a:moveTo>
                <a:lnTo>
                  <a:pt x="1143000" y="414338"/>
                </a:lnTo>
                <a:lnTo>
                  <a:pt x="1554956" y="257175"/>
                </a:lnTo>
                <a:lnTo>
                  <a:pt x="1988343" y="107156"/>
                </a:lnTo>
                <a:lnTo>
                  <a:pt x="2224087" y="42863"/>
                </a:lnTo>
                <a:lnTo>
                  <a:pt x="2378868" y="11906"/>
                </a:lnTo>
                <a:lnTo>
                  <a:pt x="2469356" y="4763"/>
                </a:lnTo>
                <a:lnTo>
                  <a:pt x="2516981" y="2381"/>
                </a:lnTo>
                <a:lnTo>
                  <a:pt x="2569368" y="0"/>
                </a:lnTo>
                <a:lnTo>
                  <a:pt x="2624137" y="7144"/>
                </a:lnTo>
                <a:lnTo>
                  <a:pt x="2602706" y="169069"/>
                </a:lnTo>
                <a:lnTo>
                  <a:pt x="2576512" y="164306"/>
                </a:lnTo>
                <a:lnTo>
                  <a:pt x="2505075" y="157163"/>
                </a:lnTo>
                <a:lnTo>
                  <a:pt x="2405062" y="164306"/>
                </a:lnTo>
                <a:lnTo>
                  <a:pt x="2321718" y="178594"/>
                </a:lnTo>
                <a:lnTo>
                  <a:pt x="2145506" y="223838"/>
                </a:lnTo>
                <a:lnTo>
                  <a:pt x="1881187" y="314325"/>
                </a:lnTo>
                <a:lnTo>
                  <a:pt x="1466850" y="481013"/>
                </a:lnTo>
                <a:lnTo>
                  <a:pt x="1212056" y="590550"/>
                </a:lnTo>
                <a:lnTo>
                  <a:pt x="997743" y="688181"/>
                </a:lnTo>
                <a:lnTo>
                  <a:pt x="862012" y="747713"/>
                </a:lnTo>
                <a:lnTo>
                  <a:pt x="683418" y="840581"/>
                </a:lnTo>
                <a:lnTo>
                  <a:pt x="576262" y="897731"/>
                </a:lnTo>
                <a:lnTo>
                  <a:pt x="454818" y="978694"/>
                </a:lnTo>
                <a:lnTo>
                  <a:pt x="419100" y="1004888"/>
                </a:lnTo>
                <a:lnTo>
                  <a:pt x="409575" y="1007269"/>
                </a:lnTo>
                <a:lnTo>
                  <a:pt x="371475" y="1002506"/>
                </a:lnTo>
                <a:lnTo>
                  <a:pt x="283368" y="976313"/>
                </a:lnTo>
                <a:lnTo>
                  <a:pt x="166687" y="921544"/>
                </a:lnTo>
                <a:lnTo>
                  <a:pt x="69056" y="871538"/>
                </a:lnTo>
                <a:cubicBezTo>
                  <a:pt x="32346" y="851960"/>
                  <a:pt x="42877" y="862032"/>
                  <a:pt x="30956" y="850106"/>
                </a:cubicBezTo>
                <a:lnTo>
                  <a:pt x="16668" y="833438"/>
                </a:lnTo>
                <a:lnTo>
                  <a:pt x="0" y="807244"/>
                </a:lnTo>
                <a:lnTo>
                  <a:pt x="7143" y="785813"/>
                </a:lnTo>
                <a:lnTo>
                  <a:pt x="28575" y="783431"/>
                </a:lnTo>
                <a:lnTo>
                  <a:pt x="71437" y="788194"/>
                </a:lnTo>
                <a:lnTo>
                  <a:pt x="123825" y="800100"/>
                </a:lnTo>
                <a:lnTo>
                  <a:pt x="190500" y="802481"/>
                </a:lnTo>
                <a:lnTo>
                  <a:pt x="250031" y="795338"/>
                </a:lnTo>
                <a:lnTo>
                  <a:pt x="335756" y="769144"/>
                </a:lnTo>
                <a:lnTo>
                  <a:pt x="528637" y="683419"/>
                </a:lnTo>
                <a:lnTo>
                  <a:pt x="790575" y="5715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6"/>
          <p:cNvSpPr/>
          <p:nvPr/>
        </p:nvSpPr>
        <p:spPr>
          <a:xfrm>
            <a:off x="5932440" y="3700440"/>
            <a:ext cx="468360" cy="405000"/>
          </a:xfrm>
          <a:custGeom>
            <a:avLst/>
            <a:gdLst/>
            <a:ahLst/>
            <a:rect l="l" t="t" r="r" b="b"/>
            <a:pathLst>
              <a:path w="469106" h="404812">
                <a:moveTo>
                  <a:pt x="414337" y="235743"/>
                </a:moveTo>
                <a:lnTo>
                  <a:pt x="345281" y="145256"/>
                </a:lnTo>
                <a:lnTo>
                  <a:pt x="283369" y="90487"/>
                </a:lnTo>
                <a:lnTo>
                  <a:pt x="223837" y="54768"/>
                </a:lnTo>
                <a:lnTo>
                  <a:pt x="178594" y="38100"/>
                </a:lnTo>
                <a:lnTo>
                  <a:pt x="126206" y="21431"/>
                </a:lnTo>
                <a:lnTo>
                  <a:pt x="71437" y="9525"/>
                </a:lnTo>
                <a:lnTo>
                  <a:pt x="19050" y="0"/>
                </a:lnTo>
                <a:lnTo>
                  <a:pt x="0" y="159543"/>
                </a:lnTo>
                <a:lnTo>
                  <a:pt x="33337" y="166687"/>
                </a:lnTo>
                <a:lnTo>
                  <a:pt x="76200" y="180975"/>
                </a:lnTo>
                <a:lnTo>
                  <a:pt x="114300" y="200025"/>
                </a:lnTo>
                <a:lnTo>
                  <a:pt x="161925" y="230981"/>
                </a:lnTo>
                <a:lnTo>
                  <a:pt x="192881" y="259556"/>
                </a:lnTo>
                <a:lnTo>
                  <a:pt x="223837" y="292893"/>
                </a:lnTo>
                <a:lnTo>
                  <a:pt x="242887" y="326231"/>
                </a:lnTo>
                <a:lnTo>
                  <a:pt x="259556" y="361950"/>
                </a:lnTo>
                <a:lnTo>
                  <a:pt x="264319" y="402431"/>
                </a:lnTo>
                <a:lnTo>
                  <a:pt x="469106" y="402431"/>
                </a:lnTo>
                <a:lnTo>
                  <a:pt x="469106" y="404812"/>
                </a:lnTo>
                <a:lnTo>
                  <a:pt x="466725" y="381000"/>
                </a:lnTo>
                <a:lnTo>
                  <a:pt x="457200" y="340518"/>
                </a:lnTo>
                <a:lnTo>
                  <a:pt x="440531" y="295275"/>
                </a:lnTo>
                <a:lnTo>
                  <a:pt x="414337" y="2357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フリーフォーム 7"/>
          <p:cNvSpPr/>
          <p:nvPr/>
        </p:nvSpPr>
        <p:spPr>
          <a:xfrm>
            <a:off x="5513400" y="4084560"/>
            <a:ext cx="887400" cy="571680"/>
          </a:xfrm>
          <a:custGeom>
            <a:avLst/>
            <a:gdLst/>
            <a:ahLst/>
            <a:rect l="l" t="t" r="r" b="b"/>
            <a:pathLst>
              <a:path w="888206" h="571500">
                <a:moveTo>
                  <a:pt x="390525" y="521494"/>
                </a:moveTo>
                <a:lnTo>
                  <a:pt x="485775" y="497681"/>
                </a:lnTo>
                <a:lnTo>
                  <a:pt x="590550" y="461962"/>
                </a:lnTo>
                <a:lnTo>
                  <a:pt x="676275" y="423862"/>
                </a:lnTo>
                <a:lnTo>
                  <a:pt x="731044" y="390525"/>
                </a:lnTo>
                <a:lnTo>
                  <a:pt x="771525" y="354806"/>
                </a:lnTo>
                <a:lnTo>
                  <a:pt x="809625" y="309562"/>
                </a:lnTo>
                <a:lnTo>
                  <a:pt x="838200" y="261937"/>
                </a:lnTo>
                <a:lnTo>
                  <a:pt x="857250" y="216694"/>
                </a:lnTo>
                <a:lnTo>
                  <a:pt x="873919" y="157162"/>
                </a:lnTo>
                <a:lnTo>
                  <a:pt x="883444" y="97631"/>
                </a:lnTo>
                <a:lnTo>
                  <a:pt x="888206" y="47625"/>
                </a:lnTo>
                <a:lnTo>
                  <a:pt x="888206" y="19050"/>
                </a:lnTo>
                <a:lnTo>
                  <a:pt x="883444" y="2381"/>
                </a:lnTo>
                <a:lnTo>
                  <a:pt x="683419" y="0"/>
                </a:lnTo>
                <a:lnTo>
                  <a:pt x="685800" y="30956"/>
                </a:lnTo>
                <a:lnTo>
                  <a:pt x="683419" y="71437"/>
                </a:lnTo>
                <a:lnTo>
                  <a:pt x="671512" y="116681"/>
                </a:lnTo>
                <a:lnTo>
                  <a:pt x="657225" y="159544"/>
                </a:lnTo>
                <a:lnTo>
                  <a:pt x="633412" y="207169"/>
                </a:lnTo>
                <a:lnTo>
                  <a:pt x="597694" y="257175"/>
                </a:lnTo>
                <a:lnTo>
                  <a:pt x="554831" y="302419"/>
                </a:lnTo>
                <a:lnTo>
                  <a:pt x="485775" y="354806"/>
                </a:lnTo>
                <a:lnTo>
                  <a:pt x="404812" y="404812"/>
                </a:lnTo>
                <a:lnTo>
                  <a:pt x="314325" y="445294"/>
                </a:lnTo>
                <a:lnTo>
                  <a:pt x="211931" y="481012"/>
                </a:lnTo>
                <a:lnTo>
                  <a:pt x="119062" y="507206"/>
                </a:lnTo>
                <a:lnTo>
                  <a:pt x="47625" y="523875"/>
                </a:lnTo>
                <a:lnTo>
                  <a:pt x="23812" y="531019"/>
                </a:lnTo>
                <a:lnTo>
                  <a:pt x="9525" y="538162"/>
                </a:lnTo>
                <a:lnTo>
                  <a:pt x="0" y="550069"/>
                </a:lnTo>
                <a:lnTo>
                  <a:pt x="4762" y="564356"/>
                </a:lnTo>
                <a:lnTo>
                  <a:pt x="11906" y="566737"/>
                </a:lnTo>
                <a:lnTo>
                  <a:pt x="35719" y="571500"/>
                </a:lnTo>
                <a:lnTo>
                  <a:pt x="71437" y="571500"/>
                </a:lnTo>
                <a:lnTo>
                  <a:pt x="145256" y="561975"/>
                </a:lnTo>
                <a:lnTo>
                  <a:pt x="271462" y="542925"/>
                </a:lnTo>
                <a:lnTo>
                  <a:pt x="390525" y="5214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フリーフォーム 8"/>
          <p:cNvSpPr/>
          <p:nvPr/>
        </p:nvSpPr>
        <p:spPr>
          <a:xfrm>
            <a:off x="5113440" y="3284640"/>
            <a:ext cx="315720" cy="177840"/>
          </a:xfrm>
          <a:custGeom>
            <a:avLst/>
            <a:gdLst/>
            <a:ahLst/>
            <a:rect l="l" t="t" r="r" b="b"/>
            <a:pathLst>
              <a:path w="316706" h="178592">
                <a:moveTo>
                  <a:pt x="197644" y="0"/>
                </a:moveTo>
                <a:lnTo>
                  <a:pt x="316706" y="178592"/>
                </a:lnTo>
                <a:lnTo>
                  <a:pt x="292894" y="169069"/>
                </a:lnTo>
                <a:lnTo>
                  <a:pt x="223837" y="145256"/>
                </a:lnTo>
                <a:lnTo>
                  <a:pt x="161925" y="128587"/>
                </a:lnTo>
                <a:lnTo>
                  <a:pt x="119062" y="123825"/>
                </a:lnTo>
                <a:lnTo>
                  <a:pt x="66675" y="121444"/>
                </a:lnTo>
                <a:lnTo>
                  <a:pt x="35719" y="123825"/>
                </a:lnTo>
                <a:lnTo>
                  <a:pt x="16669" y="123825"/>
                </a:lnTo>
                <a:lnTo>
                  <a:pt x="2381" y="114300"/>
                </a:lnTo>
                <a:lnTo>
                  <a:pt x="0" y="92869"/>
                </a:lnTo>
                <a:lnTo>
                  <a:pt x="19050" y="73819"/>
                </a:lnTo>
                <a:lnTo>
                  <a:pt x="64294" y="61912"/>
                </a:lnTo>
                <a:lnTo>
                  <a:pt x="152400" y="40481"/>
                </a:lnTo>
                <a:lnTo>
                  <a:pt x="176212" y="30956"/>
                </a:lnTo>
                <a:lnTo>
                  <a:pt x="188119" y="16669"/>
                </a:lnTo>
                <a:cubicBezTo>
                  <a:pt x="198084" y="1721"/>
                  <a:pt x="197644" y="8105"/>
                  <a:pt x="19764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フリーフォーム 9"/>
          <p:cNvSpPr/>
          <p:nvPr/>
        </p:nvSpPr>
        <p:spPr>
          <a:xfrm>
            <a:off x="4967280" y="2962440"/>
            <a:ext cx="646200" cy="564840"/>
          </a:xfrm>
          <a:custGeom>
            <a:avLst/>
            <a:gdLst/>
            <a:ahLst/>
            <a:rect l="l" t="t" r="r" b="b"/>
            <a:pathLst>
              <a:path w="645964" h="564356">
                <a:moveTo>
                  <a:pt x="214958" y="50006"/>
                </a:moveTo>
                <a:lnTo>
                  <a:pt x="362596" y="102394"/>
                </a:lnTo>
                <a:lnTo>
                  <a:pt x="445939" y="135731"/>
                </a:lnTo>
                <a:lnTo>
                  <a:pt x="514996" y="176213"/>
                </a:lnTo>
                <a:lnTo>
                  <a:pt x="541189" y="202406"/>
                </a:lnTo>
                <a:lnTo>
                  <a:pt x="565002" y="230981"/>
                </a:lnTo>
                <a:lnTo>
                  <a:pt x="588814" y="269081"/>
                </a:lnTo>
                <a:lnTo>
                  <a:pt x="612627" y="314325"/>
                </a:lnTo>
                <a:lnTo>
                  <a:pt x="629296" y="350044"/>
                </a:lnTo>
                <a:lnTo>
                  <a:pt x="638821" y="381000"/>
                </a:lnTo>
                <a:lnTo>
                  <a:pt x="645964" y="411956"/>
                </a:lnTo>
                <a:lnTo>
                  <a:pt x="645964" y="450056"/>
                </a:lnTo>
                <a:lnTo>
                  <a:pt x="645964" y="500063"/>
                </a:lnTo>
                <a:lnTo>
                  <a:pt x="631677" y="540544"/>
                </a:lnTo>
                <a:lnTo>
                  <a:pt x="615008" y="559594"/>
                </a:lnTo>
                <a:lnTo>
                  <a:pt x="584052" y="564356"/>
                </a:lnTo>
                <a:lnTo>
                  <a:pt x="553096" y="554831"/>
                </a:lnTo>
                <a:lnTo>
                  <a:pt x="507852" y="523875"/>
                </a:lnTo>
                <a:lnTo>
                  <a:pt x="438796" y="490538"/>
                </a:lnTo>
                <a:lnTo>
                  <a:pt x="334021" y="338138"/>
                </a:lnTo>
                <a:cubicBezTo>
                  <a:pt x="343986" y="323190"/>
                  <a:pt x="343546" y="329574"/>
                  <a:pt x="343546" y="321469"/>
                </a:cubicBezTo>
                <a:lnTo>
                  <a:pt x="343546" y="304800"/>
                </a:lnTo>
                <a:lnTo>
                  <a:pt x="334021" y="283369"/>
                </a:lnTo>
                <a:lnTo>
                  <a:pt x="295921" y="240506"/>
                </a:lnTo>
                <a:lnTo>
                  <a:pt x="238771" y="180975"/>
                </a:lnTo>
                <a:lnTo>
                  <a:pt x="184002" y="138113"/>
                </a:lnTo>
                <a:lnTo>
                  <a:pt x="133996" y="102394"/>
                </a:lnTo>
                <a:lnTo>
                  <a:pt x="72083" y="69056"/>
                </a:lnTo>
                <a:lnTo>
                  <a:pt x="17314" y="35719"/>
                </a:lnTo>
                <a:cubicBezTo>
                  <a:pt x="0" y="23351"/>
                  <a:pt x="646" y="30641"/>
                  <a:pt x="646" y="21431"/>
                </a:cubicBezTo>
                <a:lnTo>
                  <a:pt x="646" y="9525"/>
                </a:lnTo>
                <a:lnTo>
                  <a:pt x="17314" y="0"/>
                </a:lnTo>
                <a:lnTo>
                  <a:pt x="45889" y="2381"/>
                </a:lnTo>
                <a:lnTo>
                  <a:pt x="93514" y="14288"/>
                </a:lnTo>
                <a:lnTo>
                  <a:pt x="214958" y="500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 repeatCount="1000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 repeatCount="100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2" repeatCount="1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06:23:17Z</dcterms:modified>
  <cp:revision>152</cp:revision>
  <dc:subject/>
  <dc:title>スライド 1</dc:title>
</cp:coreProperties>
</file>