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366E-CFF0-4A80-99B3-49B31F4F39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8F61-0CFC-4075-8F51-CC29483B16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B4B-98D9-43B6-A77E-2AD88E6C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BD5-040D-44F6-8875-B136CDD7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58A-911F-4CB5-BA33-C1AF7FF4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6F3-FE4D-42D0-8760-A7641CD0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6C3-9C78-4274-84AC-B3DE23DD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E4A-C7A2-44B3-91E6-B1748320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10B1-A07C-42BC-83A4-20EB04F5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5AA-A489-41EE-8B18-8BF0200A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7D0-2D2A-4874-AB47-C8DDAD67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371-ED76-406D-8018-7D391BE3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B3B-6D2E-4291-AE1E-EA83422F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B6D-DDC1-4A19-BA42-8CFF9361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DDBC-389B-46F0-8FB9-018B0EBA33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3906720" y="3564000"/>
            <a:ext cx="1905120" cy="425520"/>
          </a:xfrm>
          <a:custGeom>
            <a:avLst/>
            <a:gdLst/>
            <a:ahLst/>
            <a:rect l="l" t="t" r="r" b="b"/>
            <a:pathLst>
              <a:path w="1905000" h="423863">
                <a:moveTo>
                  <a:pt x="609600" y="357188"/>
                </a:moveTo>
                <a:lnTo>
                  <a:pt x="754857" y="330994"/>
                </a:lnTo>
                <a:lnTo>
                  <a:pt x="819150" y="319088"/>
                </a:lnTo>
                <a:lnTo>
                  <a:pt x="1004888" y="285750"/>
                </a:lnTo>
                <a:lnTo>
                  <a:pt x="1169194" y="266700"/>
                </a:lnTo>
                <a:lnTo>
                  <a:pt x="1388269" y="245269"/>
                </a:lnTo>
                <a:lnTo>
                  <a:pt x="1550194" y="233363"/>
                </a:lnTo>
                <a:lnTo>
                  <a:pt x="1676400" y="226219"/>
                </a:lnTo>
                <a:lnTo>
                  <a:pt x="1764507" y="221457"/>
                </a:lnTo>
                <a:lnTo>
                  <a:pt x="1807369" y="221457"/>
                </a:lnTo>
                <a:lnTo>
                  <a:pt x="1838325" y="214313"/>
                </a:lnTo>
                <a:lnTo>
                  <a:pt x="1874044" y="202407"/>
                </a:lnTo>
                <a:lnTo>
                  <a:pt x="1897857" y="185738"/>
                </a:lnTo>
                <a:lnTo>
                  <a:pt x="1905000" y="166688"/>
                </a:lnTo>
                <a:lnTo>
                  <a:pt x="1905000" y="142875"/>
                </a:lnTo>
                <a:lnTo>
                  <a:pt x="1897857" y="126207"/>
                </a:lnTo>
                <a:lnTo>
                  <a:pt x="1876425" y="102394"/>
                </a:lnTo>
                <a:lnTo>
                  <a:pt x="1831182" y="78582"/>
                </a:lnTo>
                <a:lnTo>
                  <a:pt x="1762125" y="47625"/>
                </a:lnTo>
                <a:lnTo>
                  <a:pt x="1695450" y="26194"/>
                </a:lnTo>
                <a:lnTo>
                  <a:pt x="1612107" y="7144"/>
                </a:lnTo>
                <a:lnTo>
                  <a:pt x="1557338" y="0"/>
                </a:lnTo>
                <a:lnTo>
                  <a:pt x="1528763" y="11907"/>
                </a:lnTo>
                <a:lnTo>
                  <a:pt x="1471613" y="33338"/>
                </a:lnTo>
                <a:lnTo>
                  <a:pt x="1395413" y="54769"/>
                </a:lnTo>
                <a:lnTo>
                  <a:pt x="1264444" y="85725"/>
                </a:lnTo>
                <a:lnTo>
                  <a:pt x="1092994" y="119063"/>
                </a:lnTo>
                <a:lnTo>
                  <a:pt x="914400" y="150019"/>
                </a:lnTo>
                <a:lnTo>
                  <a:pt x="735807" y="173832"/>
                </a:lnTo>
                <a:lnTo>
                  <a:pt x="559594" y="197644"/>
                </a:lnTo>
                <a:lnTo>
                  <a:pt x="376238" y="216694"/>
                </a:lnTo>
                <a:lnTo>
                  <a:pt x="261938" y="223838"/>
                </a:lnTo>
                <a:lnTo>
                  <a:pt x="164307" y="219075"/>
                </a:lnTo>
                <a:lnTo>
                  <a:pt x="90488" y="207169"/>
                </a:lnTo>
                <a:lnTo>
                  <a:pt x="40482" y="197644"/>
                </a:lnTo>
                <a:lnTo>
                  <a:pt x="16669" y="190500"/>
                </a:lnTo>
                <a:lnTo>
                  <a:pt x="7144" y="192882"/>
                </a:lnTo>
                <a:lnTo>
                  <a:pt x="0" y="202407"/>
                </a:lnTo>
                <a:lnTo>
                  <a:pt x="0" y="214313"/>
                </a:lnTo>
                <a:lnTo>
                  <a:pt x="4763" y="230982"/>
                </a:lnTo>
                <a:lnTo>
                  <a:pt x="14288" y="252413"/>
                </a:lnTo>
                <a:lnTo>
                  <a:pt x="35719" y="269082"/>
                </a:lnTo>
                <a:lnTo>
                  <a:pt x="73819" y="295275"/>
                </a:lnTo>
                <a:lnTo>
                  <a:pt x="140494" y="342900"/>
                </a:lnTo>
                <a:lnTo>
                  <a:pt x="226219" y="395288"/>
                </a:lnTo>
                <a:lnTo>
                  <a:pt x="261938" y="414338"/>
                </a:lnTo>
                <a:lnTo>
                  <a:pt x="273844" y="421482"/>
                </a:lnTo>
                <a:lnTo>
                  <a:pt x="280988" y="423863"/>
                </a:lnTo>
                <a:lnTo>
                  <a:pt x="304800" y="423863"/>
                </a:lnTo>
                <a:lnTo>
                  <a:pt x="364332" y="407194"/>
                </a:lnTo>
                <a:lnTo>
                  <a:pt x="511969" y="373857"/>
                </a:lnTo>
                <a:lnTo>
                  <a:pt x="609600" y="357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3"/>
          <p:cNvSpPr/>
          <p:nvPr/>
        </p:nvSpPr>
        <p:spPr>
          <a:xfrm>
            <a:off x="4734000" y="3830760"/>
            <a:ext cx="328680" cy="1269720"/>
          </a:xfrm>
          <a:custGeom>
            <a:avLst/>
            <a:gdLst/>
            <a:ahLst/>
            <a:rect l="l" t="t" r="r" b="b"/>
            <a:pathLst>
              <a:path w="328613" h="1269207">
                <a:moveTo>
                  <a:pt x="78581" y="733425"/>
                </a:moveTo>
                <a:lnTo>
                  <a:pt x="78581" y="414338"/>
                </a:lnTo>
                <a:lnTo>
                  <a:pt x="78581" y="250032"/>
                </a:lnTo>
                <a:cubicBezTo>
                  <a:pt x="77787" y="228601"/>
                  <a:pt x="76994" y="207169"/>
                  <a:pt x="76200" y="185738"/>
                </a:cubicBezTo>
                <a:lnTo>
                  <a:pt x="66675" y="150019"/>
                </a:lnTo>
                <a:lnTo>
                  <a:pt x="42863" y="90488"/>
                </a:lnTo>
                <a:lnTo>
                  <a:pt x="19050" y="59532"/>
                </a:lnTo>
                <a:lnTo>
                  <a:pt x="0" y="28575"/>
                </a:lnTo>
                <a:lnTo>
                  <a:pt x="11906" y="16669"/>
                </a:lnTo>
                <a:lnTo>
                  <a:pt x="128588" y="0"/>
                </a:lnTo>
                <a:lnTo>
                  <a:pt x="197644" y="59532"/>
                </a:lnTo>
                <a:lnTo>
                  <a:pt x="288131" y="128588"/>
                </a:lnTo>
                <a:lnTo>
                  <a:pt x="323850" y="154782"/>
                </a:lnTo>
                <a:lnTo>
                  <a:pt x="328613" y="164307"/>
                </a:lnTo>
                <a:lnTo>
                  <a:pt x="328613" y="185738"/>
                </a:lnTo>
                <a:lnTo>
                  <a:pt x="321469" y="228600"/>
                </a:lnTo>
                <a:lnTo>
                  <a:pt x="307181" y="271463"/>
                </a:lnTo>
                <a:lnTo>
                  <a:pt x="300038" y="295275"/>
                </a:lnTo>
                <a:lnTo>
                  <a:pt x="292894" y="466725"/>
                </a:lnTo>
                <a:lnTo>
                  <a:pt x="278606" y="788194"/>
                </a:lnTo>
                <a:lnTo>
                  <a:pt x="261938" y="1159669"/>
                </a:lnTo>
                <a:lnTo>
                  <a:pt x="259556" y="1214438"/>
                </a:lnTo>
                <a:lnTo>
                  <a:pt x="257175" y="1235869"/>
                </a:lnTo>
                <a:lnTo>
                  <a:pt x="240506" y="1247775"/>
                </a:lnTo>
                <a:lnTo>
                  <a:pt x="97631" y="1269207"/>
                </a:lnTo>
                <a:lnTo>
                  <a:pt x="85725" y="1259682"/>
                </a:lnTo>
                <a:lnTo>
                  <a:pt x="78581" y="1235869"/>
                </a:lnTo>
                <a:lnTo>
                  <a:pt x="78581" y="1071563"/>
                </a:lnTo>
                <a:lnTo>
                  <a:pt x="78581" y="7334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5"/>
          <p:cNvSpPr/>
          <p:nvPr/>
        </p:nvSpPr>
        <p:spPr>
          <a:xfrm rot="19800000">
            <a:off x="3627360" y="4532040"/>
            <a:ext cx="2613240" cy="1392120"/>
          </a:xfrm>
          <a:custGeom>
            <a:avLst/>
            <a:gdLst/>
            <a:ahLst/>
            <a:rect l="l" t="t" r="r" b="b"/>
            <a:pathLst>
              <a:path w="2612231" h="1393031">
                <a:moveTo>
                  <a:pt x="788193" y="309563"/>
                </a:moveTo>
                <a:lnTo>
                  <a:pt x="1204912" y="459581"/>
                </a:lnTo>
                <a:lnTo>
                  <a:pt x="1502568" y="581025"/>
                </a:lnTo>
                <a:lnTo>
                  <a:pt x="1907381" y="752475"/>
                </a:lnTo>
                <a:lnTo>
                  <a:pt x="1985962" y="792956"/>
                </a:lnTo>
                <a:lnTo>
                  <a:pt x="2050256" y="809625"/>
                </a:lnTo>
                <a:lnTo>
                  <a:pt x="2185987" y="852488"/>
                </a:lnTo>
                <a:lnTo>
                  <a:pt x="2259806" y="873919"/>
                </a:lnTo>
                <a:lnTo>
                  <a:pt x="2274093" y="881063"/>
                </a:lnTo>
                <a:lnTo>
                  <a:pt x="2293143" y="895350"/>
                </a:lnTo>
                <a:lnTo>
                  <a:pt x="2400300" y="990600"/>
                </a:lnTo>
                <a:lnTo>
                  <a:pt x="2495550" y="1092994"/>
                </a:lnTo>
                <a:lnTo>
                  <a:pt x="2559843" y="1181100"/>
                </a:lnTo>
                <a:lnTo>
                  <a:pt x="2593181" y="1243013"/>
                </a:lnTo>
                <a:lnTo>
                  <a:pt x="2607468" y="1281113"/>
                </a:lnTo>
                <a:lnTo>
                  <a:pt x="2612231" y="1309688"/>
                </a:lnTo>
                <a:lnTo>
                  <a:pt x="2609850" y="1345406"/>
                </a:lnTo>
                <a:lnTo>
                  <a:pt x="2605087" y="1364456"/>
                </a:lnTo>
                <a:lnTo>
                  <a:pt x="2590800" y="1381125"/>
                </a:lnTo>
                <a:lnTo>
                  <a:pt x="2569368" y="1393031"/>
                </a:lnTo>
                <a:lnTo>
                  <a:pt x="2547937" y="1390650"/>
                </a:lnTo>
                <a:lnTo>
                  <a:pt x="2514600" y="1381125"/>
                </a:lnTo>
                <a:lnTo>
                  <a:pt x="2476500" y="1357313"/>
                </a:lnTo>
                <a:lnTo>
                  <a:pt x="2407443" y="1293019"/>
                </a:lnTo>
                <a:lnTo>
                  <a:pt x="2252662" y="1171575"/>
                </a:lnTo>
                <a:lnTo>
                  <a:pt x="2116931" y="1076325"/>
                </a:lnTo>
                <a:lnTo>
                  <a:pt x="1919287" y="962025"/>
                </a:lnTo>
                <a:lnTo>
                  <a:pt x="1719262" y="857250"/>
                </a:lnTo>
                <a:lnTo>
                  <a:pt x="1364456" y="695325"/>
                </a:lnTo>
                <a:lnTo>
                  <a:pt x="1057275" y="573881"/>
                </a:lnTo>
                <a:lnTo>
                  <a:pt x="685800" y="452438"/>
                </a:lnTo>
                <a:lnTo>
                  <a:pt x="404812" y="385763"/>
                </a:lnTo>
                <a:lnTo>
                  <a:pt x="297656" y="369094"/>
                </a:lnTo>
                <a:lnTo>
                  <a:pt x="235743" y="361950"/>
                </a:lnTo>
                <a:lnTo>
                  <a:pt x="178593" y="347663"/>
                </a:lnTo>
                <a:lnTo>
                  <a:pt x="154781" y="335756"/>
                </a:lnTo>
                <a:lnTo>
                  <a:pt x="133350" y="311944"/>
                </a:lnTo>
                <a:lnTo>
                  <a:pt x="64293" y="185738"/>
                </a:lnTo>
                <a:lnTo>
                  <a:pt x="23812" y="97631"/>
                </a:lnTo>
                <a:lnTo>
                  <a:pt x="7143" y="47625"/>
                </a:lnTo>
                <a:lnTo>
                  <a:pt x="0" y="21431"/>
                </a:lnTo>
                <a:lnTo>
                  <a:pt x="2381" y="2381"/>
                </a:lnTo>
                <a:lnTo>
                  <a:pt x="9525" y="0"/>
                </a:lnTo>
                <a:lnTo>
                  <a:pt x="19050" y="2381"/>
                </a:lnTo>
                <a:lnTo>
                  <a:pt x="35718" y="14288"/>
                </a:lnTo>
                <a:lnTo>
                  <a:pt x="45243" y="26194"/>
                </a:lnTo>
                <a:lnTo>
                  <a:pt x="76200" y="57150"/>
                </a:lnTo>
                <a:lnTo>
                  <a:pt x="107156" y="78581"/>
                </a:lnTo>
                <a:lnTo>
                  <a:pt x="166687" y="102394"/>
                </a:lnTo>
                <a:lnTo>
                  <a:pt x="385762" y="173831"/>
                </a:lnTo>
                <a:lnTo>
                  <a:pt x="545306" y="228600"/>
                </a:lnTo>
                <a:lnTo>
                  <a:pt x="654843" y="266700"/>
                </a:lnTo>
                <a:lnTo>
                  <a:pt x="788193" y="3095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11:30:12Z</dcterms:modified>
  <cp:revision>152</cp:revision>
  <dc:subject/>
  <dc:title>スライド 1</dc:title>
</cp:coreProperties>
</file>