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3C449-2891-4B65-86F0-013AEF89BB8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21A01-709A-4D3F-AA39-52999B04518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BFAB-52A8-49D9-A34B-784263A89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736F-0426-4164-A586-594FF719E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8A47-0559-470F-A4F0-961E7BB01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91C5-6314-4DAD-BD70-1E8018800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4453-604D-49F5-A136-A0792240A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98DF-3958-4AC2-860E-6FDF8A047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C449-4D57-4DE3-80AD-7206F0AEF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A067-7DEC-4FF9-96A2-F5C80C544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E7C4-A405-4D5D-8339-EFA8B3971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484F-20E2-4DEB-8763-BB0A4032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CC0D-A1B1-4709-A31F-9B359764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75E2-2170-425B-8BA4-17D7A48B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990D1-846B-4C46-9BB3-0F7E5297D74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テキスト ボックス 30" descr=""/>
          <p:cNvPicPr/>
          <p:nvPr/>
        </p:nvPicPr>
        <p:blipFill>
          <a:blip r:embed="rId1"/>
          <a:stretch/>
        </p:blipFill>
        <p:spPr>
          <a:xfrm>
            <a:off x="-1359000" y="-1805040"/>
            <a:ext cx="12569760" cy="11996640"/>
          </a:xfrm>
          <a:prstGeom prst="rect">
            <a:avLst/>
          </a:prstGeom>
          <a:ln w="0">
            <a:noFill/>
          </a:ln>
        </p:spPr>
      </p:pic>
      <p:sp>
        <p:nvSpPr>
          <p:cNvPr id="49" name="フリーフォーム 2"/>
          <p:cNvSpPr/>
          <p:nvPr/>
        </p:nvSpPr>
        <p:spPr>
          <a:xfrm>
            <a:off x="5467320" y="3776760"/>
            <a:ext cx="851040" cy="736560"/>
          </a:xfrm>
          <a:custGeom>
            <a:avLst/>
            <a:gdLst/>
            <a:ahLst/>
            <a:rect l="l" t="t" r="r" b="b"/>
            <a:pathLst>
              <a:path w="850106" h="735806">
                <a:moveTo>
                  <a:pt x="464344" y="0"/>
                </a:moveTo>
                <a:lnTo>
                  <a:pt x="850106" y="7143"/>
                </a:lnTo>
                <a:lnTo>
                  <a:pt x="847725" y="26193"/>
                </a:lnTo>
                <a:lnTo>
                  <a:pt x="835819" y="45243"/>
                </a:lnTo>
                <a:lnTo>
                  <a:pt x="819150" y="59531"/>
                </a:lnTo>
                <a:lnTo>
                  <a:pt x="797719" y="66675"/>
                </a:lnTo>
                <a:lnTo>
                  <a:pt x="762000" y="73818"/>
                </a:lnTo>
                <a:lnTo>
                  <a:pt x="742950" y="83343"/>
                </a:lnTo>
                <a:lnTo>
                  <a:pt x="507206" y="323850"/>
                </a:lnTo>
                <a:lnTo>
                  <a:pt x="359569" y="469106"/>
                </a:lnTo>
                <a:lnTo>
                  <a:pt x="197644" y="611981"/>
                </a:lnTo>
                <a:lnTo>
                  <a:pt x="76200" y="709612"/>
                </a:lnTo>
                <a:lnTo>
                  <a:pt x="54769" y="723900"/>
                </a:lnTo>
                <a:lnTo>
                  <a:pt x="33338" y="733425"/>
                </a:lnTo>
                <a:lnTo>
                  <a:pt x="16669" y="735806"/>
                </a:lnTo>
                <a:lnTo>
                  <a:pt x="7144" y="735806"/>
                </a:lnTo>
                <a:lnTo>
                  <a:pt x="0" y="728662"/>
                </a:lnTo>
                <a:lnTo>
                  <a:pt x="4763" y="697706"/>
                </a:lnTo>
                <a:lnTo>
                  <a:pt x="26194" y="664368"/>
                </a:lnTo>
                <a:lnTo>
                  <a:pt x="114300" y="559593"/>
                </a:lnTo>
                <a:lnTo>
                  <a:pt x="207169" y="438150"/>
                </a:lnTo>
                <a:lnTo>
                  <a:pt x="311944" y="288131"/>
                </a:lnTo>
                <a:lnTo>
                  <a:pt x="428625" y="97631"/>
                </a:lnTo>
                <a:lnTo>
                  <a:pt x="461963" y="38100"/>
                </a:lnTo>
                <a:lnTo>
                  <a:pt x="471488" y="9525"/>
                </a:lnTo>
                <a:lnTo>
                  <a:pt x="46434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フリーフォーム 3"/>
          <p:cNvSpPr/>
          <p:nvPr/>
        </p:nvSpPr>
        <p:spPr>
          <a:xfrm>
            <a:off x="3448080" y="3571920"/>
            <a:ext cx="2870280" cy="1020600"/>
          </a:xfrm>
          <a:custGeom>
            <a:avLst/>
            <a:gdLst/>
            <a:ahLst/>
            <a:rect l="l" t="t" r="r" b="b"/>
            <a:pathLst>
              <a:path w="2869406" h="1021556">
                <a:moveTo>
                  <a:pt x="788194" y="626269"/>
                </a:moveTo>
                <a:lnTo>
                  <a:pt x="1050131" y="540544"/>
                </a:lnTo>
                <a:lnTo>
                  <a:pt x="1326356" y="438150"/>
                </a:lnTo>
                <a:lnTo>
                  <a:pt x="2219325" y="128588"/>
                </a:lnTo>
                <a:lnTo>
                  <a:pt x="2412206" y="66675"/>
                </a:lnTo>
                <a:lnTo>
                  <a:pt x="2440781" y="57150"/>
                </a:lnTo>
                <a:lnTo>
                  <a:pt x="2478881" y="33338"/>
                </a:lnTo>
                <a:lnTo>
                  <a:pt x="2528888" y="9525"/>
                </a:lnTo>
                <a:lnTo>
                  <a:pt x="2566988" y="0"/>
                </a:lnTo>
                <a:lnTo>
                  <a:pt x="2600325" y="0"/>
                </a:lnTo>
                <a:lnTo>
                  <a:pt x="2628900" y="4763"/>
                </a:lnTo>
                <a:lnTo>
                  <a:pt x="2662238" y="30956"/>
                </a:lnTo>
                <a:lnTo>
                  <a:pt x="2845594" y="178594"/>
                </a:lnTo>
                <a:lnTo>
                  <a:pt x="2862263" y="192881"/>
                </a:lnTo>
                <a:lnTo>
                  <a:pt x="2869406" y="211931"/>
                </a:lnTo>
                <a:lnTo>
                  <a:pt x="2867025" y="230981"/>
                </a:lnTo>
                <a:lnTo>
                  <a:pt x="2490788" y="214313"/>
                </a:lnTo>
                <a:lnTo>
                  <a:pt x="2483644" y="204788"/>
                </a:lnTo>
                <a:lnTo>
                  <a:pt x="2474119" y="197644"/>
                </a:lnTo>
                <a:lnTo>
                  <a:pt x="2452688" y="195263"/>
                </a:lnTo>
                <a:lnTo>
                  <a:pt x="2409825" y="216694"/>
                </a:lnTo>
                <a:lnTo>
                  <a:pt x="2033588" y="350044"/>
                </a:lnTo>
                <a:lnTo>
                  <a:pt x="1323975" y="607219"/>
                </a:lnTo>
                <a:lnTo>
                  <a:pt x="1035844" y="716756"/>
                </a:lnTo>
                <a:lnTo>
                  <a:pt x="547688" y="916781"/>
                </a:lnTo>
                <a:lnTo>
                  <a:pt x="519113" y="928688"/>
                </a:lnTo>
                <a:lnTo>
                  <a:pt x="469106" y="959644"/>
                </a:lnTo>
                <a:lnTo>
                  <a:pt x="381000" y="1007269"/>
                </a:lnTo>
                <a:lnTo>
                  <a:pt x="359569" y="1021556"/>
                </a:lnTo>
                <a:lnTo>
                  <a:pt x="328613" y="1016794"/>
                </a:lnTo>
                <a:lnTo>
                  <a:pt x="197644" y="959644"/>
                </a:lnTo>
                <a:lnTo>
                  <a:pt x="90488" y="892969"/>
                </a:lnTo>
                <a:lnTo>
                  <a:pt x="23813" y="842963"/>
                </a:lnTo>
                <a:lnTo>
                  <a:pt x="4763" y="812006"/>
                </a:lnTo>
                <a:lnTo>
                  <a:pt x="0" y="795338"/>
                </a:lnTo>
                <a:lnTo>
                  <a:pt x="4763" y="781050"/>
                </a:lnTo>
                <a:lnTo>
                  <a:pt x="19050" y="773906"/>
                </a:lnTo>
                <a:lnTo>
                  <a:pt x="47625" y="776288"/>
                </a:lnTo>
                <a:lnTo>
                  <a:pt x="97631" y="788194"/>
                </a:lnTo>
                <a:lnTo>
                  <a:pt x="171450" y="795338"/>
                </a:lnTo>
                <a:lnTo>
                  <a:pt x="254794" y="790575"/>
                </a:lnTo>
                <a:lnTo>
                  <a:pt x="347663" y="773906"/>
                </a:lnTo>
                <a:lnTo>
                  <a:pt x="481013" y="733425"/>
                </a:lnTo>
                <a:lnTo>
                  <a:pt x="616744" y="688181"/>
                </a:lnTo>
                <a:lnTo>
                  <a:pt x="695325" y="657225"/>
                </a:lnTo>
                <a:lnTo>
                  <a:pt x="788194" y="6262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フリーフォーム 5"/>
          <p:cNvSpPr/>
          <p:nvPr/>
        </p:nvSpPr>
        <p:spPr>
          <a:xfrm rot="2700000">
            <a:off x="3366720" y="3710160"/>
            <a:ext cx="2685960" cy="1377720"/>
          </a:xfrm>
          <a:custGeom>
            <a:avLst/>
            <a:gdLst/>
            <a:ahLst/>
            <a:rect l="l" t="t" r="r" b="b"/>
            <a:pathLst>
              <a:path w="2686050" h="1378743">
                <a:moveTo>
                  <a:pt x="661988" y="435768"/>
                </a:moveTo>
                <a:lnTo>
                  <a:pt x="981075" y="602456"/>
                </a:lnTo>
                <a:lnTo>
                  <a:pt x="1221581" y="735806"/>
                </a:lnTo>
                <a:lnTo>
                  <a:pt x="1921669" y="1114425"/>
                </a:lnTo>
                <a:lnTo>
                  <a:pt x="2081213" y="1200150"/>
                </a:lnTo>
                <a:lnTo>
                  <a:pt x="2131219" y="1226343"/>
                </a:lnTo>
                <a:lnTo>
                  <a:pt x="2176463" y="1259681"/>
                </a:lnTo>
                <a:lnTo>
                  <a:pt x="2224088" y="1300162"/>
                </a:lnTo>
                <a:lnTo>
                  <a:pt x="2252663" y="1328737"/>
                </a:lnTo>
                <a:lnTo>
                  <a:pt x="2281238" y="1347787"/>
                </a:lnTo>
                <a:lnTo>
                  <a:pt x="2326481" y="1364456"/>
                </a:lnTo>
                <a:lnTo>
                  <a:pt x="2366963" y="1373981"/>
                </a:lnTo>
                <a:lnTo>
                  <a:pt x="2405063" y="1378743"/>
                </a:lnTo>
                <a:lnTo>
                  <a:pt x="2459831" y="1376362"/>
                </a:lnTo>
                <a:lnTo>
                  <a:pt x="2536031" y="1376362"/>
                </a:lnTo>
                <a:lnTo>
                  <a:pt x="2593181" y="1369218"/>
                </a:lnTo>
                <a:lnTo>
                  <a:pt x="2633663" y="1359693"/>
                </a:lnTo>
                <a:lnTo>
                  <a:pt x="2667000" y="1340643"/>
                </a:lnTo>
                <a:lnTo>
                  <a:pt x="2683669" y="1321593"/>
                </a:lnTo>
                <a:lnTo>
                  <a:pt x="2686050" y="1304925"/>
                </a:lnTo>
                <a:lnTo>
                  <a:pt x="2671763" y="1273968"/>
                </a:lnTo>
                <a:lnTo>
                  <a:pt x="2643188" y="1243012"/>
                </a:lnTo>
                <a:lnTo>
                  <a:pt x="2593181" y="1214437"/>
                </a:lnTo>
                <a:lnTo>
                  <a:pt x="2266950" y="1045368"/>
                </a:lnTo>
                <a:lnTo>
                  <a:pt x="1654969" y="735806"/>
                </a:lnTo>
                <a:lnTo>
                  <a:pt x="1240631" y="526256"/>
                </a:lnTo>
                <a:lnTo>
                  <a:pt x="1023938" y="404812"/>
                </a:lnTo>
                <a:lnTo>
                  <a:pt x="571500" y="138112"/>
                </a:lnTo>
                <a:lnTo>
                  <a:pt x="495300" y="95250"/>
                </a:lnTo>
                <a:lnTo>
                  <a:pt x="438150" y="52387"/>
                </a:lnTo>
                <a:lnTo>
                  <a:pt x="400050" y="16668"/>
                </a:lnTo>
                <a:lnTo>
                  <a:pt x="383381" y="4762"/>
                </a:lnTo>
                <a:lnTo>
                  <a:pt x="359569" y="0"/>
                </a:lnTo>
                <a:lnTo>
                  <a:pt x="323850" y="4762"/>
                </a:lnTo>
                <a:lnTo>
                  <a:pt x="252413" y="30956"/>
                </a:lnTo>
                <a:lnTo>
                  <a:pt x="169069" y="73818"/>
                </a:lnTo>
                <a:lnTo>
                  <a:pt x="80963" y="130968"/>
                </a:lnTo>
                <a:lnTo>
                  <a:pt x="23813" y="176212"/>
                </a:lnTo>
                <a:lnTo>
                  <a:pt x="7144" y="204787"/>
                </a:lnTo>
                <a:lnTo>
                  <a:pt x="0" y="226218"/>
                </a:lnTo>
                <a:lnTo>
                  <a:pt x="2381" y="240506"/>
                </a:lnTo>
                <a:lnTo>
                  <a:pt x="11906" y="257175"/>
                </a:lnTo>
                <a:lnTo>
                  <a:pt x="28575" y="261937"/>
                </a:lnTo>
                <a:lnTo>
                  <a:pt x="54769" y="266700"/>
                </a:lnTo>
                <a:lnTo>
                  <a:pt x="85725" y="254793"/>
                </a:lnTo>
                <a:lnTo>
                  <a:pt x="135731" y="240506"/>
                </a:lnTo>
                <a:lnTo>
                  <a:pt x="176213" y="233362"/>
                </a:lnTo>
                <a:lnTo>
                  <a:pt x="223838" y="233362"/>
                </a:lnTo>
                <a:lnTo>
                  <a:pt x="280988" y="242887"/>
                </a:lnTo>
                <a:lnTo>
                  <a:pt x="333375" y="261937"/>
                </a:lnTo>
                <a:lnTo>
                  <a:pt x="414338" y="307181"/>
                </a:lnTo>
                <a:lnTo>
                  <a:pt x="661988" y="43576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75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 repeatCount="1000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07:37:16Z</dcterms:created>
  <dc:creator/>
  <dc:description/>
  <dc:language>en-US</dc:language>
  <cp:lastModifiedBy>ASADA</cp:lastModifiedBy>
  <dcterms:modified xsi:type="dcterms:W3CDTF">2020-09-27T06:20:12Z</dcterms:modified>
  <cp:revision>149</cp:revision>
  <dc:subject/>
  <dc:title>スライド 1</dc:title>
</cp:coreProperties>
</file>