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CC6A-92FC-4FFB-BA6B-A073BB58EAB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F88D-D612-42F4-9B13-7E234366AB1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2E49-3930-476D-B859-837AD0FC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D5C-CF1E-4601-8E26-D85714DD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B31-8F43-4912-A40A-20434AD7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410-C753-40A4-8720-C0B8DA0F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F51-65F7-4EB9-A168-2912AEFC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07A-2B91-45B5-8679-4EC80CF2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F15-7077-48F8-ADCC-43F99282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F6E9-EC8F-4CC8-BEF0-FDE02E8F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21C7-57A9-42FE-B234-24B8921F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A55-9BA0-4DB6-852E-8501C83C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4D32-4A9C-4247-84B7-9EEF6540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7A4-4D0B-43B9-8C8B-D69B3693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9726-2BB9-4A8B-B832-8265C16617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>
            <a:off x="3751200" y="3705120"/>
            <a:ext cx="304920" cy="1019160"/>
          </a:xfrm>
          <a:custGeom>
            <a:avLst/>
            <a:gdLst/>
            <a:ahLst/>
            <a:rect l="l" t="t" r="r" b="b"/>
            <a:pathLst>
              <a:path w="304912" h="1019175">
                <a:moveTo>
                  <a:pt x="78581" y="488156"/>
                </a:moveTo>
                <a:lnTo>
                  <a:pt x="78581" y="623888"/>
                </a:lnTo>
                <a:cubicBezTo>
                  <a:pt x="79375" y="655638"/>
                  <a:pt x="80168" y="687388"/>
                  <a:pt x="80962" y="719138"/>
                </a:cubicBezTo>
                <a:lnTo>
                  <a:pt x="83344" y="778669"/>
                </a:lnTo>
                <a:lnTo>
                  <a:pt x="90487" y="840581"/>
                </a:lnTo>
                <a:lnTo>
                  <a:pt x="102394" y="888206"/>
                </a:lnTo>
                <a:lnTo>
                  <a:pt x="119062" y="926306"/>
                </a:lnTo>
                <a:lnTo>
                  <a:pt x="142875" y="959644"/>
                </a:lnTo>
                <a:lnTo>
                  <a:pt x="169069" y="988219"/>
                </a:lnTo>
                <a:lnTo>
                  <a:pt x="195262" y="1012031"/>
                </a:lnTo>
                <a:lnTo>
                  <a:pt x="214312" y="1019175"/>
                </a:lnTo>
                <a:lnTo>
                  <a:pt x="230981" y="1016794"/>
                </a:lnTo>
                <a:lnTo>
                  <a:pt x="257175" y="1007269"/>
                </a:lnTo>
                <a:lnTo>
                  <a:pt x="278606" y="983456"/>
                </a:lnTo>
                <a:lnTo>
                  <a:pt x="297656" y="940594"/>
                </a:lnTo>
                <a:cubicBezTo>
                  <a:pt x="304912" y="889802"/>
                  <a:pt x="304800" y="907426"/>
                  <a:pt x="304800" y="888206"/>
                </a:cubicBezTo>
                <a:lnTo>
                  <a:pt x="302419" y="854869"/>
                </a:lnTo>
                <a:lnTo>
                  <a:pt x="283369" y="731044"/>
                </a:lnTo>
                <a:lnTo>
                  <a:pt x="250031" y="497681"/>
                </a:lnTo>
                <a:lnTo>
                  <a:pt x="221456" y="278606"/>
                </a:lnTo>
                <a:lnTo>
                  <a:pt x="211931" y="176213"/>
                </a:lnTo>
                <a:lnTo>
                  <a:pt x="197644" y="121444"/>
                </a:lnTo>
                <a:lnTo>
                  <a:pt x="188119" y="66675"/>
                </a:lnTo>
                <a:lnTo>
                  <a:pt x="145256" y="52388"/>
                </a:lnTo>
                <a:lnTo>
                  <a:pt x="95250" y="33338"/>
                </a:lnTo>
                <a:lnTo>
                  <a:pt x="47625" y="14288"/>
                </a:lnTo>
                <a:lnTo>
                  <a:pt x="23812" y="0"/>
                </a:lnTo>
                <a:lnTo>
                  <a:pt x="9525" y="0"/>
                </a:lnTo>
                <a:lnTo>
                  <a:pt x="2381" y="7144"/>
                </a:lnTo>
                <a:lnTo>
                  <a:pt x="0" y="16669"/>
                </a:lnTo>
                <a:lnTo>
                  <a:pt x="0" y="33338"/>
                </a:lnTo>
                <a:lnTo>
                  <a:pt x="4762" y="52388"/>
                </a:lnTo>
                <a:lnTo>
                  <a:pt x="21431" y="69056"/>
                </a:lnTo>
                <a:lnTo>
                  <a:pt x="42862" y="100013"/>
                </a:lnTo>
                <a:lnTo>
                  <a:pt x="50006" y="116681"/>
                </a:lnTo>
                <a:lnTo>
                  <a:pt x="61912" y="147638"/>
                </a:lnTo>
                <a:lnTo>
                  <a:pt x="71437" y="183356"/>
                </a:lnTo>
                <a:lnTo>
                  <a:pt x="78581" y="230981"/>
                </a:lnTo>
                <a:lnTo>
                  <a:pt x="78581" y="292894"/>
                </a:lnTo>
                <a:lnTo>
                  <a:pt x="78581" y="385763"/>
                </a:lnTo>
                <a:cubicBezTo>
                  <a:pt x="79375" y="419100"/>
                  <a:pt x="78581" y="448469"/>
                  <a:pt x="78581" y="48815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4"/>
          <p:cNvSpPr/>
          <p:nvPr/>
        </p:nvSpPr>
        <p:spPr>
          <a:xfrm>
            <a:off x="3916440" y="3532320"/>
            <a:ext cx="2257200" cy="412560"/>
          </a:xfrm>
          <a:custGeom>
            <a:avLst/>
            <a:gdLst/>
            <a:ahLst/>
            <a:rect l="l" t="t" r="r" b="b"/>
            <a:pathLst>
              <a:path w="2257425" h="414337">
                <a:moveTo>
                  <a:pt x="509588" y="226219"/>
                </a:moveTo>
                <a:lnTo>
                  <a:pt x="711994" y="202406"/>
                </a:lnTo>
                <a:lnTo>
                  <a:pt x="1035844" y="161925"/>
                </a:lnTo>
                <a:lnTo>
                  <a:pt x="1438275" y="107156"/>
                </a:lnTo>
                <a:lnTo>
                  <a:pt x="1724025" y="61912"/>
                </a:lnTo>
                <a:lnTo>
                  <a:pt x="1852613" y="40481"/>
                </a:lnTo>
                <a:lnTo>
                  <a:pt x="1900238" y="33337"/>
                </a:lnTo>
                <a:lnTo>
                  <a:pt x="1940719" y="19050"/>
                </a:lnTo>
                <a:lnTo>
                  <a:pt x="1985963" y="4762"/>
                </a:lnTo>
                <a:lnTo>
                  <a:pt x="2012157" y="0"/>
                </a:lnTo>
                <a:lnTo>
                  <a:pt x="2028825" y="4762"/>
                </a:lnTo>
                <a:lnTo>
                  <a:pt x="2076450" y="42862"/>
                </a:lnTo>
                <a:lnTo>
                  <a:pt x="2145507" y="95250"/>
                </a:lnTo>
                <a:lnTo>
                  <a:pt x="2214563" y="150019"/>
                </a:lnTo>
                <a:lnTo>
                  <a:pt x="2245519" y="178594"/>
                </a:lnTo>
                <a:lnTo>
                  <a:pt x="2255044" y="192881"/>
                </a:lnTo>
                <a:lnTo>
                  <a:pt x="2257425" y="202406"/>
                </a:lnTo>
                <a:lnTo>
                  <a:pt x="2257425" y="219075"/>
                </a:lnTo>
                <a:lnTo>
                  <a:pt x="2252663" y="233362"/>
                </a:lnTo>
                <a:lnTo>
                  <a:pt x="2243138" y="242887"/>
                </a:lnTo>
                <a:lnTo>
                  <a:pt x="2226469" y="257175"/>
                </a:lnTo>
                <a:lnTo>
                  <a:pt x="2205038" y="266700"/>
                </a:lnTo>
                <a:lnTo>
                  <a:pt x="2193132" y="273844"/>
                </a:lnTo>
                <a:lnTo>
                  <a:pt x="2185988" y="285750"/>
                </a:lnTo>
                <a:lnTo>
                  <a:pt x="1874044" y="269081"/>
                </a:lnTo>
                <a:lnTo>
                  <a:pt x="1871663" y="259556"/>
                </a:lnTo>
                <a:lnTo>
                  <a:pt x="1864519" y="238125"/>
                </a:lnTo>
                <a:lnTo>
                  <a:pt x="1852613" y="226219"/>
                </a:lnTo>
                <a:lnTo>
                  <a:pt x="1833563" y="214312"/>
                </a:lnTo>
                <a:lnTo>
                  <a:pt x="1809750" y="214312"/>
                </a:lnTo>
                <a:lnTo>
                  <a:pt x="1681163" y="235744"/>
                </a:lnTo>
                <a:lnTo>
                  <a:pt x="1431132" y="273844"/>
                </a:lnTo>
                <a:lnTo>
                  <a:pt x="1095375" y="319087"/>
                </a:lnTo>
                <a:lnTo>
                  <a:pt x="661988" y="371475"/>
                </a:lnTo>
                <a:lnTo>
                  <a:pt x="311944" y="407194"/>
                </a:lnTo>
                <a:lnTo>
                  <a:pt x="235744" y="409575"/>
                </a:lnTo>
                <a:lnTo>
                  <a:pt x="216694" y="411956"/>
                </a:lnTo>
                <a:lnTo>
                  <a:pt x="197644" y="414337"/>
                </a:lnTo>
                <a:lnTo>
                  <a:pt x="166688" y="414337"/>
                </a:lnTo>
                <a:lnTo>
                  <a:pt x="142875" y="409575"/>
                </a:lnTo>
                <a:lnTo>
                  <a:pt x="104775" y="397669"/>
                </a:lnTo>
                <a:lnTo>
                  <a:pt x="71438" y="383381"/>
                </a:lnTo>
                <a:lnTo>
                  <a:pt x="40482" y="364331"/>
                </a:lnTo>
                <a:lnTo>
                  <a:pt x="23813" y="357187"/>
                </a:lnTo>
                <a:lnTo>
                  <a:pt x="0" y="235744"/>
                </a:lnTo>
                <a:lnTo>
                  <a:pt x="30957" y="245269"/>
                </a:lnTo>
                <a:lnTo>
                  <a:pt x="85725" y="252412"/>
                </a:lnTo>
                <a:lnTo>
                  <a:pt x="128588" y="257175"/>
                </a:lnTo>
                <a:lnTo>
                  <a:pt x="166688" y="254794"/>
                </a:lnTo>
                <a:lnTo>
                  <a:pt x="252413" y="252412"/>
                </a:lnTo>
                <a:lnTo>
                  <a:pt x="376238" y="240506"/>
                </a:lnTo>
                <a:lnTo>
                  <a:pt x="509588" y="2262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6"/>
          <p:cNvSpPr/>
          <p:nvPr/>
        </p:nvSpPr>
        <p:spPr>
          <a:xfrm rot="19800000">
            <a:off x="4084200" y="4167000"/>
            <a:ext cx="2395440" cy="1203120"/>
          </a:xfrm>
          <a:custGeom>
            <a:avLst/>
            <a:gdLst/>
            <a:ahLst/>
            <a:rect l="l" t="t" r="r" b="b"/>
            <a:pathLst>
              <a:path w="2395537" h="1202531">
                <a:moveTo>
                  <a:pt x="1423987" y="547687"/>
                </a:moveTo>
                <a:lnTo>
                  <a:pt x="1650206" y="409575"/>
                </a:lnTo>
                <a:lnTo>
                  <a:pt x="1812131" y="302418"/>
                </a:lnTo>
                <a:lnTo>
                  <a:pt x="1921669" y="221456"/>
                </a:lnTo>
                <a:lnTo>
                  <a:pt x="2024062" y="135731"/>
                </a:lnTo>
                <a:lnTo>
                  <a:pt x="2083594" y="78581"/>
                </a:lnTo>
                <a:lnTo>
                  <a:pt x="2119312" y="33337"/>
                </a:lnTo>
                <a:lnTo>
                  <a:pt x="2128837" y="0"/>
                </a:lnTo>
                <a:lnTo>
                  <a:pt x="2395537" y="180975"/>
                </a:lnTo>
                <a:lnTo>
                  <a:pt x="2352675" y="207168"/>
                </a:lnTo>
                <a:lnTo>
                  <a:pt x="2233612" y="292893"/>
                </a:lnTo>
                <a:lnTo>
                  <a:pt x="2081212" y="397668"/>
                </a:lnTo>
                <a:lnTo>
                  <a:pt x="1833562" y="552450"/>
                </a:lnTo>
                <a:lnTo>
                  <a:pt x="1640681" y="657225"/>
                </a:lnTo>
                <a:lnTo>
                  <a:pt x="1426369" y="766762"/>
                </a:lnTo>
                <a:lnTo>
                  <a:pt x="1214437" y="864393"/>
                </a:lnTo>
                <a:lnTo>
                  <a:pt x="954881" y="966787"/>
                </a:lnTo>
                <a:lnTo>
                  <a:pt x="692944" y="1054893"/>
                </a:lnTo>
                <a:lnTo>
                  <a:pt x="433387" y="1126331"/>
                </a:lnTo>
                <a:lnTo>
                  <a:pt x="240506" y="1169193"/>
                </a:lnTo>
                <a:lnTo>
                  <a:pt x="73819" y="1200150"/>
                </a:lnTo>
                <a:lnTo>
                  <a:pt x="38100" y="1202531"/>
                </a:lnTo>
                <a:lnTo>
                  <a:pt x="9525" y="1197768"/>
                </a:lnTo>
                <a:lnTo>
                  <a:pt x="0" y="1188243"/>
                </a:lnTo>
                <a:lnTo>
                  <a:pt x="0" y="1171575"/>
                </a:lnTo>
                <a:lnTo>
                  <a:pt x="14287" y="1152525"/>
                </a:lnTo>
                <a:lnTo>
                  <a:pt x="40481" y="1140618"/>
                </a:lnTo>
                <a:lnTo>
                  <a:pt x="152400" y="1109662"/>
                </a:lnTo>
                <a:lnTo>
                  <a:pt x="340519" y="1047750"/>
                </a:lnTo>
                <a:lnTo>
                  <a:pt x="638175" y="935831"/>
                </a:lnTo>
                <a:lnTo>
                  <a:pt x="897731" y="823912"/>
                </a:lnTo>
                <a:lnTo>
                  <a:pt x="1188244" y="678656"/>
                </a:lnTo>
                <a:lnTo>
                  <a:pt x="1352550" y="588168"/>
                </a:lnTo>
                <a:lnTo>
                  <a:pt x="1423987" y="5476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9"/>
          <p:cNvSpPr/>
          <p:nvPr/>
        </p:nvSpPr>
        <p:spPr>
          <a:xfrm>
            <a:off x="4557600" y="3011400"/>
            <a:ext cx="416160" cy="731880"/>
          </a:xfrm>
          <a:custGeom>
            <a:avLst/>
            <a:gdLst/>
            <a:ahLst/>
            <a:rect l="l" t="t" r="r" b="b"/>
            <a:pathLst>
              <a:path w="416718" h="731044">
                <a:moveTo>
                  <a:pt x="185737" y="507207"/>
                </a:moveTo>
                <a:lnTo>
                  <a:pt x="185737" y="454819"/>
                </a:lnTo>
                <a:lnTo>
                  <a:pt x="180975" y="392907"/>
                </a:lnTo>
                <a:lnTo>
                  <a:pt x="169068" y="326232"/>
                </a:lnTo>
                <a:lnTo>
                  <a:pt x="157162" y="273844"/>
                </a:lnTo>
                <a:lnTo>
                  <a:pt x="135731" y="221457"/>
                </a:lnTo>
                <a:lnTo>
                  <a:pt x="111918" y="171450"/>
                </a:lnTo>
                <a:lnTo>
                  <a:pt x="85725" y="138113"/>
                </a:lnTo>
                <a:lnTo>
                  <a:pt x="50006" y="97632"/>
                </a:lnTo>
                <a:lnTo>
                  <a:pt x="16668" y="71438"/>
                </a:lnTo>
                <a:cubicBezTo>
                  <a:pt x="4201" y="58971"/>
                  <a:pt x="4762" y="65145"/>
                  <a:pt x="4762" y="57150"/>
                </a:cubicBezTo>
                <a:lnTo>
                  <a:pt x="0" y="33338"/>
                </a:lnTo>
                <a:lnTo>
                  <a:pt x="0" y="16669"/>
                </a:lnTo>
                <a:lnTo>
                  <a:pt x="4762" y="0"/>
                </a:lnTo>
                <a:lnTo>
                  <a:pt x="19050" y="0"/>
                </a:lnTo>
                <a:lnTo>
                  <a:pt x="40481" y="11907"/>
                </a:lnTo>
                <a:lnTo>
                  <a:pt x="73818" y="23813"/>
                </a:lnTo>
                <a:lnTo>
                  <a:pt x="133350" y="40482"/>
                </a:lnTo>
                <a:lnTo>
                  <a:pt x="204787" y="66675"/>
                </a:lnTo>
                <a:lnTo>
                  <a:pt x="257175" y="85725"/>
                </a:lnTo>
                <a:lnTo>
                  <a:pt x="297656" y="107157"/>
                </a:lnTo>
                <a:lnTo>
                  <a:pt x="340518" y="130969"/>
                </a:lnTo>
                <a:lnTo>
                  <a:pt x="364331" y="147638"/>
                </a:lnTo>
                <a:lnTo>
                  <a:pt x="390525" y="171450"/>
                </a:lnTo>
                <a:lnTo>
                  <a:pt x="404812" y="192882"/>
                </a:lnTo>
                <a:lnTo>
                  <a:pt x="414337" y="211932"/>
                </a:lnTo>
                <a:lnTo>
                  <a:pt x="416718" y="233363"/>
                </a:lnTo>
                <a:lnTo>
                  <a:pt x="409575" y="261938"/>
                </a:lnTo>
                <a:lnTo>
                  <a:pt x="392906" y="297657"/>
                </a:lnTo>
                <a:lnTo>
                  <a:pt x="378618" y="333375"/>
                </a:lnTo>
                <a:lnTo>
                  <a:pt x="373856" y="364332"/>
                </a:lnTo>
                <a:lnTo>
                  <a:pt x="369093" y="390525"/>
                </a:lnTo>
                <a:lnTo>
                  <a:pt x="364331" y="431007"/>
                </a:lnTo>
                <a:cubicBezTo>
                  <a:pt x="365125" y="468313"/>
                  <a:pt x="365918" y="505619"/>
                  <a:pt x="366712" y="542925"/>
                </a:cubicBezTo>
                <a:lnTo>
                  <a:pt x="366712" y="645319"/>
                </a:lnTo>
                <a:lnTo>
                  <a:pt x="369093" y="697707"/>
                </a:lnTo>
                <a:lnTo>
                  <a:pt x="361950" y="709613"/>
                </a:lnTo>
                <a:lnTo>
                  <a:pt x="185737" y="731044"/>
                </a:lnTo>
                <a:lnTo>
                  <a:pt x="190500" y="659607"/>
                </a:lnTo>
                <a:lnTo>
                  <a:pt x="185737" y="5072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 repeatCount="1000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4:28:33Z</dcterms:modified>
  <cp:revision>150</cp:revision>
  <dc:subject/>
  <dc:title>スライド 1</dc:title>
</cp:coreProperties>
</file>