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F0ED-09A5-4298-9A6D-BD5A7F6791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B02-2ECD-43D0-A5B7-277F017C50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677-22D0-4E9B-B46B-ADD7F4E3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CDB-4F23-4CC1-AC9A-B0536E1C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3CC-2A43-4405-A1AA-D6ED2B78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A71-3FAB-4A6A-A756-09AFE96E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974-127C-46A6-934F-8385ECD4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9AE-053F-4D08-BB9D-503BB62A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C52-C47D-4ECD-8180-A0B86B6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500-16E7-4B9D-BFCD-6D3FA135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14F-83D6-4CAE-B0D0-37D5DDAE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C3B-B29D-447F-B78E-6BD7BAA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3B7-83CA-4294-BEE6-F0FC2CF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C9E-DAF7-4E38-A9A5-881DFD2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723-1009-470B-837C-D229EB73F5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20100000">
            <a:off x="3017520" y="2585520"/>
            <a:ext cx="3724200" cy="2062440"/>
          </a:xfrm>
          <a:custGeom>
            <a:avLst/>
            <a:gdLst/>
            <a:ahLst/>
            <a:rect l="l" t="t" r="r" b="b"/>
            <a:pathLst>
              <a:path w="3724401" h="2062406">
                <a:moveTo>
                  <a:pt x="1181434" y="677457"/>
                </a:moveTo>
                <a:lnTo>
                  <a:pt x="1872240" y="967796"/>
                </a:lnTo>
                <a:lnTo>
                  <a:pt x="2272707" y="1144669"/>
                </a:lnTo>
                <a:lnTo>
                  <a:pt x="2683186" y="1321542"/>
                </a:lnTo>
                <a:lnTo>
                  <a:pt x="2996885" y="1458368"/>
                </a:lnTo>
                <a:lnTo>
                  <a:pt x="3183770" y="1545136"/>
                </a:lnTo>
                <a:lnTo>
                  <a:pt x="3220479" y="1558485"/>
                </a:lnTo>
                <a:lnTo>
                  <a:pt x="3273875" y="1565159"/>
                </a:lnTo>
                <a:lnTo>
                  <a:pt x="3327271" y="1565159"/>
                </a:lnTo>
                <a:lnTo>
                  <a:pt x="3360643" y="1571834"/>
                </a:lnTo>
                <a:lnTo>
                  <a:pt x="3384003" y="1585183"/>
                </a:lnTo>
                <a:lnTo>
                  <a:pt x="3460760" y="1645253"/>
                </a:lnTo>
                <a:lnTo>
                  <a:pt x="3507481" y="1685300"/>
                </a:lnTo>
                <a:lnTo>
                  <a:pt x="3550865" y="1728684"/>
                </a:lnTo>
                <a:lnTo>
                  <a:pt x="3604260" y="1792091"/>
                </a:lnTo>
                <a:lnTo>
                  <a:pt x="3657656" y="1862173"/>
                </a:lnTo>
                <a:lnTo>
                  <a:pt x="3701040" y="1932254"/>
                </a:lnTo>
                <a:lnTo>
                  <a:pt x="3721063" y="1972301"/>
                </a:lnTo>
                <a:lnTo>
                  <a:pt x="3724401" y="2002336"/>
                </a:lnTo>
                <a:lnTo>
                  <a:pt x="3721063" y="2039046"/>
                </a:lnTo>
                <a:lnTo>
                  <a:pt x="3711052" y="2055732"/>
                </a:lnTo>
                <a:lnTo>
                  <a:pt x="3681017" y="2062406"/>
                </a:lnTo>
                <a:lnTo>
                  <a:pt x="3630958" y="2049057"/>
                </a:lnTo>
                <a:lnTo>
                  <a:pt x="3524167" y="1992324"/>
                </a:lnTo>
                <a:lnTo>
                  <a:pt x="3173758" y="1812114"/>
                </a:lnTo>
                <a:lnTo>
                  <a:pt x="2492964" y="1478392"/>
                </a:lnTo>
                <a:lnTo>
                  <a:pt x="1852217" y="1184716"/>
                </a:lnTo>
                <a:lnTo>
                  <a:pt x="1041271" y="837644"/>
                </a:lnTo>
                <a:lnTo>
                  <a:pt x="620780" y="680794"/>
                </a:lnTo>
                <a:lnTo>
                  <a:pt x="337116" y="584015"/>
                </a:lnTo>
                <a:lnTo>
                  <a:pt x="200290" y="553980"/>
                </a:lnTo>
                <a:lnTo>
                  <a:pt x="156906" y="550643"/>
                </a:lnTo>
                <a:lnTo>
                  <a:pt x="126871" y="520608"/>
                </a:lnTo>
                <a:lnTo>
                  <a:pt x="86824" y="420491"/>
                </a:lnTo>
                <a:lnTo>
                  <a:pt x="50114" y="310362"/>
                </a:lnTo>
                <a:lnTo>
                  <a:pt x="16742" y="200234"/>
                </a:lnTo>
                <a:lnTo>
                  <a:pt x="3393" y="113466"/>
                </a:lnTo>
                <a:cubicBezTo>
                  <a:pt x="0" y="45610"/>
                  <a:pt x="56" y="68997"/>
                  <a:pt x="56" y="43384"/>
                </a:cubicBezTo>
                <a:lnTo>
                  <a:pt x="56" y="20024"/>
                </a:lnTo>
                <a:lnTo>
                  <a:pt x="6730" y="6675"/>
                </a:lnTo>
                <a:lnTo>
                  <a:pt x="20079" y="0"/>
                </a:lnTo>
                <a:lnTo>
                  <a:pt x="30091" y="3338"/>
                </a:lnTo>
                <a:lnTo>
                  <a:pt x="43440" y="13349"/>
                </a:lnTo>
                <a:lnTo>
                  <a:pt x="56789" y="36710"/>
                </a:lnTo>
                <a:lnTo>
                  <a:pt x="80149" y="83431"/>
                </a:lnTo>
                <a:lnTo>
                  <a:pt x="126871" y="173536"/>
                </a:lnTo>
                <a:lnTo>
                  <a:pt x="163580" y="220257"/>
                </a:lnTo>
                <a:lnTo>
                  <a:pt x="213638" y="260304"/>
                </a:lnTo>
                <a:lnTo>
                  <a:pt x="330441" y="327048"/>
                </a:lnTo>
                <a:lnTo>
                  <a:pt x="473942" y="400467"/>
                </a:lnTo>
                <a:lnTo>
                  <a:pt x="544024" y="427165"/>
                </a:lnTo>
                <a:lnTo>
                  <a:pt x="677513" y="480561"/>
                </a:lnTo>
                <a:lnTo>
                  <a:pt x="931142" y="577340"/>
                </a:lnTo>
                <a:lnTo>
                  <a:pt x="1074643" y="637411"/>
                </a:lnTo>
                <a:lnTo>
                  <a:pt x="1181434" y="6774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14:43Z</dcterms:modified>
  <cp:revision>147</cp:revision>
  <dc:subject/>
  <dc:title>スライド 1</dc:title>
</cp:coreProperties>
</file>