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D699-74C2-4AD0-850E-5264995464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F91B-6C41-4787-8AC8-B58E8C331C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40F-6C02-455E-820A-A4D5E8D4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C47-BADE-4801-84FF-85358944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47F-32FC-4F26-B7BF-0B4AE272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6DE-CEFA-4071-834D-D429D78B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DFF-71C0-417F-ACB5-6869B4FB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9D7-ED7F-4BCF-A397-7FF5F7EA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1D0-AC23-4013-AAD1-2EF0E90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B88-CC5C-4F14-9F70-7DFA6B65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951-AC5C-48B7-B9D5-2533E11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F23-01FF-48D4-B92A-6A50EBE8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36D-0230-4EC4-9F64-6028BBB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1D8-A8C1-475F-94C1-B863E7F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87F-C25B-463A-8A9F-AAF0338DBC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571920" y="3468600"/>
            <a:ext cx="2523960" cy="569880"/>
          </a:xfrm>
          <a:custGeom>
            <a:avLst/>
            <a:gdLst/>
            <a:ahLst/>
            <a:rect l="l" t="t" r="r" b="b"/>
            <a:pathLst>
              <a:path w="2524125" h="569119">
                <a:moveTo>
                  <a:pt x="778669" y="285750"/>
                </a:moveTo>
                <a:lnTo>
                  <a:pt x="1300163" y="176213"/>
                </a:lnTo>
                <a:lnTo>
                  <a:pt x="1635919" y="109538"/>
                </a:lnTo>
                <a:lnTo>
                  <a:pt x="1850231" y="64294"/>
                </a:lnTo>
                <a:lnTo>
                  <a:pt x="1995488" y="26194"/>
                </a:lnTo>
                <a:lnTo>
                  <a:pt x="2081213" y="2382"/>
                </a:lnTo>
                <a:lnTo>
                  <a:pt x="2128838" y="0"/>
                </a:lnTo>
                <a:lnTo>
                  <a:pt x="2195513" y="7144"/>
                </a:lnTo>
                <a:lnTo>
                  <a:pt x="2259806" y="23813"/>
                </a:lnTo>
                <a:lnTo>
                  <a:pt x="2336006" y="47625"/>
                </a:lnTo>
                <a:lnTo>
                  <a:pt x="2421731" y="80963"/>
                </a:lnTo>
                <a:lnTo>
                  <a:pt x="2486025" y="111919"/>
                </a:lnTo>
                <a:lnTo>
                  <a:pt x="2505075" y="128588"/>
                </a:lnTo>
                <a:lnTo>
                  <a:pt x="2519363" y="152400"/>
                </a:lnTo>
                <a:lnTo>
                  <a:pt x="2524125" y="183357"/>
                </a:lnTo>
                <a:lnTo>
                  <a:pt x="2516981" y="207169"/>
                </a:lnTo>
                <a:lnTo>
                  <a:pt x="2481263" y="240507"/>
                </a:lnTo>
                <a:lnTo>
                  <a:pt x="2445544" y="252413"/>
                </a:lnTo>
                <a:lnTo>
                  <a:pt x="2405063" y="247650"/>
                </a:lnTo>
                <a:lnTo>
                  <a:pt x="2307431" y="238125"/>
                </a:lnTo>
                <a:lnTo>
                  <a:pt x="2176463" y="240507"/>
                </a:lnTo>
                <a:lnTo>
                  <a:pt x="1990725" y="250032"/>
                </a:lnTo>
                <a:lnTo>
                  <a:pt x="1704975" y="276225"/>
                </a:lnTo>
                <a:lnTo>
                  <a:pt x="1602581" y="295275"/>
                </a:lnTo>
                <a:lnTo>
                  <a:pt x="1221581" y="357188"/>
                </a:lnTo>
                <a:lnTo>
                  <a:pt x="597694" y="481013"/>
                </a:lnTo>
                <a:lnTo>
                  <a:pt x="440531" y="514350"/>
                </a:lnTo>
                <a:lnTo>
                  <a:pt x="373856" y="540544"/>
                </a:lnTo>
                <a:lnTo>
                  <a:pt x="309563" y="559594"/>
                </a:lnTo>
                <a:lnTo>
                  <a:pt x="261938" y="566738"/>
                </a:lnTo>
                <a:lnTo>
                  <a:pt x="240506" y="569119"/>
                </a:lnTo>
                <a:lnTo>
                  <a:pt x="209550" y="552450"/>
                </a:lnTo>
                <a:lnTo>
                  <a:pt x="61913" y="450057"/>
                </a:lnTo>
                <a:lnTo>
                  <a:pt x="21431" y="407194"/>
                </a:lnTo>
                <a:lnTo>
                  <a:pt x="4763" y="373857"/>
                </a:lnTo>
                <a:lnTo>
                  <a:pt x="0" y="350044"/>
                </a:lnTo>
                <a:lnTo>
                  <a:pt x="2381" y="333375"/>
                </a:lnTo>
                <a:lnTo>
                  <a:pt x="23813" y="330994"/>
                </a:lnTo>
                <a:lnTo>
                  <a:pt x="66675" y="342900"/>
                </a:lnTo>
                <a:lnTo>
                  <a:pt x="145256" y="359569"/>
                </a:lnTo>
                <a:lnTo>
                  <a:pt x="252413" y="373857"/>
                </a:lnTo>
                <a:cubicBezTo>
                  <a:pt x="274637" y="373034"/>
                  <a:pt x="296849" y="371475"/>
                  <a:pt x="319088" y="371475"/>
                </a:cubicBezTo>
                <a:lnTo>
                  <a:pt x="526256" y="333375"/>
                </a:lnTo>
                <a:lnTo>
                  <a:pt x="778669" y="2857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 rot="17700000">
            <a:off x="4608360" y="5178600"/>
            <a:ext cx="309600" cy="604800"/>
          </a:xfrm>
          <a:custGeom>
            <a:avLst/>
            <a:gdLst/>
            <a:ahLst/>
            <a:rect l="l" t="t" r="r" b="b"/>
            <a:pathLst>
              <a:path w="308141" h="603754">
                <a:moveTo>
                  <a:pt x="0" y="603754"/>
                </a:moveTo>
                <a:lnTo>
                  <a:pt x="308141" y="483504"/>
                </a:lnTo>
                <a:lnTo>
                  <a:pt x="290604" y="475989"/>
                </a:lnTo>
                <a:lnTo>
                  <a:pt x="275573" y="455947"/>
                </a:lnTo>
                <a:lnTo>
                  <a:pt x="258037" y="428390"/>
                </a:lnTo>
                <a:lnTo>
                  <a:pt x="250521" y="403338"/>
                </a:lnTo>
                <a:lnTo>
                  <a:pt x="243005" y="355739"/>
                </a:lnTo>
                <a:lnTo>
                  <a:pt x="232984" y="207932"/>
                </a:lnTo>
                <a:lnTo>
                  <a:pt x="230479" y="55114"/>
                </a:lnTo>
                <a:lnTo>
                  <a:pt x="222964" y="25052"/>
                </a:lnTo>
                <a:lnTo>
                  <a:pt x="212943" y="7515"/>
                </a:lnTo>
                <a:lnTo>
                  <a:pt x="195406" y="0"/>
                </a:lnTo>
                <a:lnTo>
                  <a:pt x="185386" y="5010"/>
                </a:lnTo>
                <a:lnTo>
                  <a:pt x="175365" y="17536"/>
                </a:lnTo>
                <a:lnTo>
                  <a:pt x="167849" y="32567"/>
                </a:lnTo>
                <a:lnTo>
                  <a:pt x="165344" y="57619"/>
                </a:lnTo>
                <a:lnTo>
                  <a:pt x="155323" y="137786"/>
                </a:lnTo>
                <a:lnTo>
                  <a:pt x="137787" y="225468"/>
                </a:lnTo>
                <a:lnTo>
                  <a:pt x="112735" y="330687"/>
                </a:lnTo>
                <a:lnTo>
                  <a:pt x="87683" y="415864"/>
                </a:lnTo>
                <a:lnTo>
                  <a:pt x="45094" y="521082"/>
                </a:lnTo>
                <a:lnTo>
                  <a:pt x="0" y="6037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7700000">
            <a:off x="3620880" y="3597120"/>
            <a:ext cx="2651040" cy="1552680"/>
          </a:xfrm>
          <a:custGeom>
            <a:avLst/>
            <a:gdLst/>
            <a:ahLst/>
            <a:rect l="l" t="t" r="r" b="b"/>
            <a:pathLst>
              <a:path w="2650507" h="1553227">
                <a:moveTo>
                  <a:pt x="1267634" y="1062207"/>
                </a:moveTo>
                <a:lnTo>
                  <a:pt x="1743623" y="826718"/>
                </a:lnTo>
                <a:lnTo>
                  <a:pt x="2192055" y="618786"/>
                </a:lnTo>
                <a:lnTo>
                  <a:pt x="2440070" y="501041"/>
                </a:lnTo>
                <a:lnTo>
                  <a:pt x="2512721" y="468473"/>
                </a:lnTo>
                <a:lnTo>
                  <a:pt x="2527752" y="468473"/>
                </a:lnTo>
                <a:lnTo>
                  <a:pt x="2552804" y="465968"/>
                </a:lnTo>
                <a:lnTo>
                  <a:pt x="2580362" y="460958"/>
                </a:lnTo>
                <a:lnTo>
                  <a:pt x="2597898" y="450937"/>
                </a:lnTo>
                <a:lnTo>
                  <a:pt x="2612929" y="428390"/>
                </a:lnTo>
                <a:lnTo>
                  <a:pt x="2622950" y="388307"/>
                </a:lnTo>
                <a:lnTo>
                  <a:pt x="2640487" y="268057"/>
                </a:lnTo>
                <a:lnTo>
                  <a:pt x="2650507" y="162838"/>
                </a:lnTo>
                <a:lnTo>
                  <a:pt x="2648002" y="82672"/>
                </a:lnTo>
                <a:lnTo>
                  <a:pt x="2642992" y="50104"/>
                </a:lnTo>
                <a:lnTo>
                  <a:pt x="2630466" y="22547"/>
                </a:lnTo>
                <a:lnTo>
                  <a:pt x="2617940" y="10021"/>
                </a:lnTo>
                <a:lnTo>
                  <a:pt x="2605414" y="0"/>
                </a:lnTo>
                <a:lnTo>
                  <a:pt x="2592888" y="2505"/>
                </a:lnTo>
                <a:lnTo>
                  <a:pt x="2580362" y="12526"/>
                </a:lnTo>
                <a:lnTo>
                  <a:pt x="2575351" y="32568"/>
                </a:lnTo>
                <a:lnTo>
                  <a:pt x="2567836" y="70146"/>
                </a:lnTo>
                <a:lnTo>
                  <a:pt x="2552804" y="117745"/>
                </a:lnTo>
                <a:lnTo>
                  <a:pt x="2520237" y="180375"/>
                </a:lnTo>
                <a:lnTo>
                  <a:pt x="2490174" y="220458"/>
                </a:lnTo>
                <a:lnTo>
                  <a:pt x="2460112" y="243005"/>
                </a:lnTo>
                <a:lnTo>
                  <a:pt x="2369924" y="288099"/>
                </a:lnTo>
                <a:lnTo>
                  <a:pt x="2026711" y="448432"/>
                </a:lnTo>
                <a:lnTo>
                  <a:pt x="1518154" y="713984"/>
                </a:lnTo>
                <a:lnTo>
                  <a:pt x="526093" y="1217530"/>
                </a:lnTo>
                <a:lnTo>
                  <a:pt x="460958" y="1252603"/>
                </a:lnTo>
                <a:lnTo>
                  <a:pt x="438411" y="1262624"/>
                </a:lnTo>
                <a:lnTo>
                  <a:pt x="423380" y="1265129"/>
                </a:lnTo>
                <a:lnTo>
                  <a:pt x="398328" y="1260118"/>
                </a:lnTo>
                <a:lnTo>
                  <a:pt x="380791" y="1252603"/>
                </a:lnTo>
                <a:lnTo>
                  <a:pt x="106163" y="1349363"/>
                </a:lnTo>
                <a:lnTo>
                  <a:pt x="90187" y="1380368"/>
                </a:lnTo>
                <a:lnTo>
                  <a:pt x="22547" y="1473061"/>
                </a:lnTo>
                <a:lnTo>
                  <a:pt x="7516" y="1495608"/>
                </a:lnTo>
                <a:lnTo>
                  <a:pt x="0" y="1513144"/>
                </a:lnTo>
                <a:lnTo>
                  <a:pt x="2505" y="1525670"/>
                </a:lnTo>
                <a:lnTo>
                  <a:pt x="15031" y="1538196"/>
                </a:lnTo>
                <a:lnTo>
                  <a:pt x="40083" y="1550722"/>
                </a:lnTo>
                <a:lnTo>
                  <a:pt x="102713" y="1553227"/>
                </a:lnTo>
                <a:lnTo>
                  <a:pt x="177870" y="1550722"/>
                </a:lnTo>
                <a:lnTo>
                  <a:pt x="273067" y="1545712"/>
                </a:lnTo>
                <a:lnTo>
                  <a:pt x="315656" y="1535691"/>
                </a:lnTo>
                <a:lnTo>
                  <a:pt x="360750" y="1525670"/>
                </a:lnTo>
                <a:lnTo>
                  <a:pt x="433400" y="1485587"/>
                </a:lnTo>
                <a:lnTo>
                  <a:pt x="744046" y="1332769"/>
                </a:lnTo>
                <a:lnTo>
                  <a:pt x="1114816" y="1137363"/>
                </a:lnTo>
                <a:lnTo>
                  <a:pt x="1267634" y="1062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8"/>
          <p:cNvSpPr/>
          <p:nvPr/>
        </p:nvSpPr>
        <p:spPr>
          <a:xfrm rot="18900000">
            <a:off x="3309480" y="4414320"/>
            <a:ext cx="2024280" cy="300240"/>
          </a:xfrm>
          <a:custGeom>
            <a:avLst/>
            <a:gdLst/>
            <a:ahLst/>
            <a:rect l="l" t="t" r="r" b="b"/>
            <a:pathLst>
              <a:path w="2024063" h="300038">
                <a:moveTo>
                  <a:pt x="1271588" y="130969"/>
                </a:moveTo>
                <a:lnTo>
                  <a:pt x="1504950" y="100013"/>
                </a:lnTo>
                <a:lnTo>
                  <a:pt x="1776413" y="50006"/>
                </a:lnTo>
                <a:lnTo>
                  <a:pt x="1916907" y="19050"/>
                </a:lnTo>
                <a:lnTo>
                  <a:pt x="1964532" y="0"/>
                </a:lnTo>
                <a:lnTo>
                  <a:pt x="1983582" y="7144"/>
                </a:lnTo>
                <a:lnTo>
                  <a:pt x="2024063" y="38100"/>
                </a:lnTo>
                <a:lnTo>
                  <a:pt x="2024063" y="61913"/>
                </a:lnTo>
                <a:lnTo>
                  <a:pt x="1966913" y="126206"/>
                </a:lnTo>
                <a:lnTo>
                  <a:pt x="1838325" y="264319"/>
                </a:lnTo>
                <a:lnTo>
                  <a:pt x="1790700" y="271463"/>
                </a:lnTo>
                <a:lnTo>
                  <a:pt x="1604963" y="288131"/>
                </a:lnTo>
                <a:lnTo>
                  <a:pt x="1300163" y="300038"/>
                </a:lnTo>
                <a:lnTo>
                  <a:pt x="1052513" y="297656"/>
                </a:lnTo>
                <a:lnTo>
                  <a:pt x="862013" y="288131"/>
                </a:lnTo>
                <a:lnTo>
                  <a:pt x="635794" y="269081"/>
                </a:lnTo>
                <a:lnTo>
                  <a:pt x="388144" y="235744"/>
                </a:lnTo>
                <a:lnTo>
                  <a:pt x="195263" y="200025"/>
                </a:lnTo>
                <a:lnTo>
                  <a:pt x="40482" y="166688"/>
                </a:lnTo>
                <a:lnTo>
                  <a:pt x="4763" y="154781"/>
                </a:lnTo>
                <a:lnTo>
                  <a:pt x="0" y="142875"/>
                </a:lnTo>
                <a:lnTo>
                  <a:pt x="2382" y="126206"/>
                </a:lnTo>
                <a:lnTo>
                  <a:pt x="23813" y="111919"/>
                </a:lnTo>
                <a:lnTo>
                  <a:pt x="52388" y="104775"/>
                </a:lnTo>
                <a:lnTo>
                  <a:pt x="123825" y="109538"/>
                </a:lnTo>
                <a:lnTo>
                  <a:pt x="390525" y="130969"/>
                </a:lnTo>
                <a:lnTo>
                  <a:pt x="619125" y="145256"/>
                </a:lnTo>
                <a:lnTo>
                  <a:pt x="854869" y="150019"/>
                </a:lnTo>
                <a:lnTo>
                  <a:pt x="1023938" y="147638"/>
                </a:lnTo>
                <a:lnTo>
                  <a:pt x="1183482" y="140494"/>
                </a:lnTo>
                <a:lnTo>
                  <a:pt x="1271588" y="1309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49:41Z</dcterms:modified>
  <cp:revision>161</cp:revision>
  <dc:subject/>
  <dc:title>スライド 1</dc:title>
</cp:coreProperties>
</file>