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CCE1-4A1F-4FC9-8750-132726DCD9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35E4-B531-42D8-95CE-C7BD4371D6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73E-471D-46F8-A847-A52DFB8F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D03-23E5-465F-AF1C-611AF34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AFF-BA80-413C-9538-C0ADE355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10A-41F1-40BF-84CA-35C7645D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BB0-9E42-460C-91D2-823BBBE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C36-A156-4E0C-8BEC-C3C747D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44A-C5A0-4334-AC8B-97A331C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22F-0117-447E-964B-7E88A70E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599-FC09-4304-9B4B-E2B9C5D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372-6CCC-4DBF-863B-A3AF566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ABA-4BA9-49CB-A2E0-986725E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1EE-E7CD-4131-867F-4117C52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C4D8-2180-409C-B81C-81C5F43A1B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3"/>
          <p:cNvSpPr/>
          <p:nvPr/>
        </p:nvSpPr>
        <p:spPr>
          <a:xfrm>
            <a:off x="4910040" y="3236760"/>
            <a:ext cx="301680" cy="185760"/>
          </a:xfrm>
          <a:custGeom>
            <a:avLst/>
            <a:gdLst/>
            <a:ahLst/>
            <a:rect l="l" t="t" r="r" b="b"/>
            <a:pathLst>
              <a:path w="302417" h="185737">
                <a:moveTo>
                  <a:pt x="102393" y="0"/>
                </a:moveTo>
                <a:lnTo>
                  <a:pt x="302417" y="107153"/>
                </a:lnTo>
                <a:lnTo>
                  <a:pt x="271462" y="107156"/>
                </a:lnTo>
                <a:lnTo>
                  <a:pt x="204787" y="116681"/>
                </a:lnTo>
                <a:lnTo>
                  <a:pt x="100012" y="152400"/>
                </a:lnTo>
                <a:lnTo>
                  <a:pt x="33337" y="185737"/>
                </a:lnTo>
                <a:lnTo>
                  <a:pt x="14287" y="185737"/>
                </a:lnTo>
                <a:cubicBezTo>
                  <a:pt x="1418" y="178016"/>
                  <a:pt x="5653" y="181867"/>
                  <a:pt x="0" y="176212"/>
                </a:cubicBezTo>
                <a:lnTo>
                  <a:pt x="2381" y="150019"/>
                </a:lnTo>
                <a:lnTo>
                  <a:pt x="14287" y="126206"/>
                </a:lnTo>
                <a:lnTo>
                  <a:pt x="50006" y="90487"/>
                </a:lnTo>
                <a:lnTo>
                  <a:pt x="92868" y="50006"/>
                </a:lnTo>
                <a:lnTo>
                  <a:pt x="104775" y="21431"/>
                </a:lnTo>
                <a:lnTo>
                  <a:pt x="1023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4"/>
          <p:cNvSpPr/>
          <p:nvPr/>
        </p:nvSpPr>
        <p:spPr>
          <a:xfrm>
            <a:off x="4640400" y="2936880"/>
            <a:ext cx="793440" cy="423720"/>
          </a:xfrm>
          <a:custGeom>
            <a:avLst/>
            <a:gdLst/>
            <a:ahLst/>
            <a:rect l="l" t="t" r="r" b="b"/>
            <a:pathLst>
              <a:path w="792957" h="423862">
                <a:moveTo>
                  <a:pt x="473869" y="80962"/>
                </a:moveTo>
                <a:lnTo>
                  <a:pt x="571500" y="133350"/>
                </a:lnTo>
                <a:lnTo>
                  <a:pt x="659607" y="197643"/>
                </a:lnTo>
                <a:lnTo>
                  <a:pt x="723900" y="257175"/>
                </a:lnTo>
                <a:lnTo>
                  <a:pt x="759619" y="297656"/>
                </a:lnTo>
                <a:lnTo>
                  <a:pt x="783432" y="340518"/>
                </a:lnTo>
                <a:lnTo>
                  <a:pt x="792957" y="366712"/>
                </a:lnTo>
                <a:lnTo>
                  <a:pt x="792957" y="381000"/>
                </a:lnTo>
                <a:lnTo>
                  <a:pt x="783432" y="402431"/>
                </a:lnTo>
                <a:lnTo>
                  <a:pt x="759619" y="423862"/>
                </a:lnTo>
                <a:lnTo>
                  <a:pt x="745332" y="423862"/>
                </a:lnTo>
                <a:lnTo>
                  <a:pt x="690563" y="411956"/>
                </a:lnTo>
                <a:lnTo>
                  <a:pt x="619125" y="402431"/>
                </a:lnTo>
                <a:lnTo>
                  <a:pt x="540544" y="404812"/>
                </a:lnTo>
                <a:lnTo>
                  <a:pt x="373857" y="319087"/>
                </a:lnTo>
                <a:lnTo>
                  <a:pt x="371475" y="297656"/>
                </a:lnTo>
                <a:lnTo>
                  <a:pt x="361950" y="264318"/>
                </a:lnTo>
                <a:lnTo>
                  <a:pt x="335757" y="228600"/>
                </a:lnTo>
                <a:lnTo>
                  <a:pt x="278607" y="180975"/>
                </a:lnTo>
                <a:lnTo>
                  <a:pt x="209550" y="135731"/>
                </a:lnTo>
                <a:lnTo>
                  <a:pt x="114300" y="90487"/>
                </a:lnTo>
                <a:lnTo>
                  <a:pt x="14288" y="40481"/>
                </a:lnTo>
                <a:lnTo>
                  <a:pt x="0" y="28575"/>
                </a:lnTo>
                <a:lnTo>
                  <a:pt x="2382" y="11906"/>
                </a:lnTo>
                <a:lnTo>
                  <a:pt x="16669" y="2381"/>
                </a:lnTo>
                <a:lnTo>
                  <a:pt x="54769" y="0"/>
                </a:lnTo>
                <a:lnTo>
                  <a:pt x="140494" y="4762"/>
                </a:lnTo>
                <a:lnTo>
                  <a:pt x="211932" y="11906"/>
                </a:lnTo>
                <a:lnTo>
                  <a:pt x="276225" y="21431"/>
                </a:lnTo>
                <a:lnTo>
                  <a:pt x="350044" y="38100"/>
                </a:lnTo>
                <a:lnTo>
                  <a:pt x="414338" y="59531"/>
                </a:lnTo>
                <a:lnTo>
                  <a:pt x="473869" y="809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>
            <a:off x="4038480" y="3722760"/>
            <a:ext cx="1576440" cy="669960"/>
          </a:xfrm>
          <a:custGeom>
            <a:avLst/>
            <a:gdLst/>
            <a:ahLst/>
            <a:rect l="l" t="t" r="r" b="b"/>
            <a:pathLst>
              <a:path w="1576388" h="671512">
                <a:moveTo>
                  <a:pt x="595313" y="321469"/>
                </a:moveTo>
                <a:lnTo>
                  <a:pt x="862013" y="209550"/>
                </a:lnTo>
                <a:lnTo>
                  <a:pt x="1112044" y="104775"/>
                </a:lnTo>
                <a:lnTo>
                  <a:pt x="1173956" y="76200"/>
                </a:lnTo>
                <a:lnTo>
                  <a:pt x="1204913" y="64294"/>
                </a:lnTo>
                <a:lnTo>
                  <a:pt x="1240631" y="35719"/>
                </a:lnTo>
                <a:lnTo>
                  <a:pt x="1281113" y="11906"/>
                </a:lnTo>
                <a:lnTo>
                  <a:pt x="1319213" y="0"/>
                </a:lnTo>
                <a:lnTo>
                  <a:pt x="1333500" y="0"/>
                </a:lnTo>
                <a:lnTo>
                  <a:pt x="1350169" y="9525"/>
                </a:lnTo>
                <a:lnTo>
                  <a:pt x="1409700" y="47625"/>
                </a:lnTo>
                <a:lnTo>
                  <a:pt x="1466850" y="85725"/>
                </a:lnTo>
                <a:lnTo>
                  <a:pt x="1502569" y="111919"/>
                </a:lnTo>
                <a:lnTo>
                  <a:pt x="1547813" y="154781"/>
                </a:lnTo>
                <a:lnTo>
                  <a:pt x="1566863" y="180975"/>
                </a:lnTo>
                <a:lnTo>
                  <a:pt x="1576388" y="197644"/>
                </a:lnTo>
                <a:lnTo>
                  <a:pt x="1576388" y="209550"/>
                </a:lnTo>
                <a:lnTo>
                  <a:pt x="1569244" y="223837"/>
                </a:lnTo>
                <a:lnTo>
                  <a:pt x="1552575" y="240506"/>
                </a:lnTo>
                <a:lnTo>
                  <a:pt x="1202531" y="257175"/>
                </a:lnTo>
                <a:lnTo>
                  <a:pt x="1207294" y="247650"/>
                </a:lnTo>
                <a:lnTo>
                  <a:pt x="1209675" y="235744"/>
                </a:lnTo>
                <a:lnTo>
                  <a:pt x="1200150" y="223837"/>
                </a:lnTo>
                <a:lnTo>
                  <a:pt x="1185863" y="223837"/>
                </a:lnTo>
                <a:lnTo>
                  <a:pt x="1162050" y="230981"/>
                </a:lnTo>
                <a:lnTo>
                  <a:pt x="1107281" y="254794"/>
                </a:lnTo>
                <a:lnTo>
                  <a:pt x="976313" y="314325"/>
                </a:lnTo>
                <a:lnTo>
                  <a:pt x="778669" y="411956"/>
                </a:lnTo>
                <a:lnTo>
                  <a:pt x="621506" y="490537"/>
                </a:lnTo>
                <a:lnTo>
                  <a:pt x="447675" y="581025"/>
                </a:lnTo>
                <a:lnTo>
                  <a:pt x="383381" y="616744"/>
                </a:lnTo>
                <a:lnTo>
                  <a:pt x="300038" y="661987"/>
                </a:lnTo>
                <a:lnTo>
                  <a:pt x="269081" y="671512"/>
                </a:lnTo>
                <a:lnTo>
                  <a:pt x="247650" y="671512"/>
                </a:lnTo>
                <a:lnTo>
                  <a:pt x="226219" y="666750"/>
                </a:lnTo>
                <a:lnTo>
                  <a:pt x="169069" y="626269"/>
                </a:lnTo>
                <a:lnTo>
                  <a:pt x="92869" y="559594"/>
                </a:lnTo>
                <a:lnTo>
                  <a:pt x="52388" y="511969"/>
                </a:lnTo>
                <a:lnTo>
                  <a:pt x="16669" y="442912"/>
                </a:lnTo>
                <a:lnTo>
                  <a:pt x="0" y="407194"/>
                </a:lnTo>
                <a:lnTo>
                  <a:pt x="4763" y="388144"/>
                </a:lnTo>
                <a:lnTo>
                  <a:pt x="19050" y="383381"/>
                </a:lnTo>
                <a:lnTo>
                  <a:pt x="35719" y="385762"/>
                </a:lnTo>
                <a:lnTo>
                  <a:pt x="64294" y="404812"/>
                </a:lnTo>
                <a:lnTo>
                  <a:pt x="92869" y="423862"/>
                </a:lnTo>
                <a:lnTo>
                  <a:pt x="130969" y="435769"/>
                </a:lnTo>
                <a:lnTo>
                  <a:pt x="183356" y="445294"/>
                </a:lnTo>
                <a:lnTo>
                  <a:pt x="223838" y="447675"/>
                </a:lnTo>
                <a:lnTo>
                  <a:pt x="269081" y="440531"/>
                </a:lnTo>
                <a:lnTo>
                  <a:pt x="447675" y="381000"/>
                </a:lnTo>
                <a:lnTo>
                  <a:pt x="595313" y="321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7"/>
          <p:cNvSpPr/>
          <p:nvPr/>
        </p:nvSpPr>
        <p:spPr>
          <a:xfrm rot="19800000">
            <a:off x="3588840" y="4324320"/>
            <a:ext cx="2301840" cy="882720"/>
          </a:xfrm>
          <a:custGeom>
            <a:avLst/>
            <a:gdLst/>
            <a:ahLst/>
            <a:rect l="l" t="t" r="r" b="b"/>
            <a:pathLst>
              <a:path w="2302668" h="883443">
                <a:moveTo>
                  <a:pt x="1116806" y="476250"/>
                </a:moveTo>
                <a:lnTo>
                  <a:pt x="1712118" y="309562"/>
                </a:lnTo>
                <a:lnTo>
                  <a:pt x="2105025" y="195262"/>
                </a:lnTo>
                <a:lnTo>
                  <a:pt x="2176462" y="173831"/>
                </a:lnTo>
                <a:lnTo>
                  <a:pt x="2195512" y="171450"/>
                </a:lnTo>
                <a:lnTo>
                  <a:pt x="2226468" y="173831"/>
                </a:lnTo>
                <a:lnTo>
                  <a:pt x="2250281" y="176212"/>
                </a:lnTo>
                <a:lnTo>
                  <a:pt x="2266950" y="173831"/>
                </a:lnTo>
                <a:lnTo>
                  <a:pt x="2286000" y="171450"/>
                </a:lnTo>
                <a:lnTo>
                  <a:pt x="2302668" y="166687"/>
                </a:lnTo>
                <a:lnTo>
                  <a:pt x="1993106" y="0"/>
                </a:lnTo>
                <a:lnTo>
                  <a:pt x="1962150" y="19050"/>
                </a:lnTo>
                <a:lnTo>
                  <a:pt x="1878806" y="52387"/>
                </a:lnTo>
                <a:lnTo>
                  <a:pt x="1747837" y="111918"/>
                </a:lnTo>
                <a:lnTo>
                  <a:pt x="1412081" y="247650"/>
                </a:lnTo>
                <a:lnTo>
                  <a:pt x="1102518" y="364331"/>
                </a:lnTo>
                <a:lnTo>
                  <a:pt x="842962" y="447675"/>
                </a:lnTo>
                <a:lnTo>
                  <a:pt x="638175" y="507206"/>
                </a:lnTo>
                <a:lnTo>
                  <a:pt x="450056" y="550068"/>
                </a:lnTo>
                <a:lnTo>
                  <a:pt x="314325" y="578643"/>
                </a:lnTo>
                <a:lnTo>
                  <a:pt x="269081" y="585787"/>
                </a:lnTo>
                <a:lnTo>
                  <a:pt x="235743" y="581025"/>
                </a:lnTo>
                <a:lnTo>
                  <a:pt x="202406" y="566737"/>
                </a:lnTo>
                <a:lnTo>
                  <a:pt x="176212" y="559593"/>
                </a:lnTo>
                <a:lnTo>
                  <a:pt x="161925" y="564356"/>
                </a:lnTo>
                <a:lnTo>
                  <a:pt x="138112" y="583406"/>
                </a:lnTo>
                <a:lnTo>
                  <a:pt x="109537" y="619125"/>
                </a:lnTo>
                <a:lnTo>
                  <a:pt x="57150" y="695325"/>
                </a:lnTo>
                <a:lnTo>
                  <a:pt x="21431" y="754856"/>
                </a:lnTo>
                <a:lnTo>
                  <a:pt x="2381" y="809625"/>
                </a:lnTo>
                <a:lnTo>
                  <a:pt x="0" y="840581"/>
                </a:lnTo>
                <a:lnTo>
                  <a:pt x="7143" y="862012"/>
                </a:lnTo>
                <a:lnTo>
                  <a:pt x="16668" y="869156"/>
                </a:lnTo>
                <a:lnTo>
                  <a:pt x="33337" y="881062"/>
                </a:lnTo>
                <a:lnTo>
                  <a:pt x="57150" y="883443"/>
                </a:lnTo>
                <a:lnTo>
                  <a:pt x="545306" y="666750"/>
                </a:lnTo>
                <a:lnTo>
                  <a:pt x="528637" y="664368"/>
                </a:lnTo>
                <a:lnTo>
                  <a:pt x="492918" y="659606"/>
                </a:lnTo>
                <a:lnTo>
                  <a:pt x="483393" y="652462"/>
                </a:lnTo>
                <a:lnTo>
                  <a:pt x="490537" y="635793"/>
                </a:lnTo>
                <a:lnTo>
                  <a:pt x="521493" y="623887"/>
                </a:lnTo>
                <a:lnTo>
                  <a:pt x="661987" y="590550"/>
                </a:lnTo>
                <a:lnTo>
                  <a:pt x="973931" y="511968"/>
                </a:lnTo>
                <a:lnTo>
                  <a:pt x="1116806" y="4762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9"/>
          <p:cNvSpPr/>
          <p:nvPr/>
        </p:nvSpPr>
        <p:spPr>
          <a:xfrm>
            <a:off x="3990960" y="5148360"/>
            <a:ext cx="703440" cy="555480"/>
          </a:xfrm>
          <a:custGeom>
            <a:avLst/>
            <a:gdLst/>
            <a:ahLst/>
            <a:rect l="l" t="t" r="r" b="b"/>
            <a:pathLst>
              <a:path w="702469" h="554831">
                <a:moveTo>
                  <a:pt x="335756" y="273843"/>
                </a:moveTo>
                <a:lnTo>
                  <a:pt x="428625" y="207168"/>
                </a:lnTo>
                <a:lnTo>
                  <a:pt x="509588" y="161925"/>
                </a:lnTo>
                <a:lnTo>
                  <a:pt x="585788" y="133350"/>
                </a:lnTo>
                <a:lnTo>
                  <a:pt x="640556" y="119062"/>
                </a:lnTo>
                <a:lnTo>
                  <a:pt x="688181" y="114300"/>
                </a:lnTo>
                <a:lnTo>
                  <a:pt x="702469" y="111918"/>
                </a:lnTo>
                <a:cubicBezTo>
                  <a:pt x="701675" y="74612"/>
                  <a:pt x="700882" y="37306"/>
                  <a:pt x="700088" y="0"/>
                </a:cubicBezTo>
                <a:lnTo>
                  <a:pt x="688181" y="0"/>
                </a:lnTo>
                <a:lnTo>
                  <a:pt x="652463" y="0"/>
                </a:lnTo>
                <a:lnTo>
                  <a:pt x="609600" y="7143"/>
                </a:lnTo>
                <a:lnTo>
                  <a:pt x="535781" y="26193"/>
                </a:lnTo>
                <a:lnTo>
                  <a:pt x="469106" y="54768"/>
                </a:lnTo>
                <a:lnTo>
                  <a:pt x="411956" y="78581"/>
                </a:lnTo>
                <a:lnTo>
                  <a:pt x="354806" y="107156"/>
                </a:lnTo>
                <a:lnTo>
                  <a:pt x="330994" y="119062"/>
                </a:lnTo>
                <a:lnTo>
                  <a:pt x="307181" y="130968"/>
                </a:lnTo>
                <a:lnTo>
                  <a:pt x="2381" y="552450"/>
                </a:lnTo>
                <a:lnTo>
                  <a:pt x="0" y="554831"/>
                </a:lnTo>
                <a:lnTo>
                  <a:pt x="40481" y="533400"/>
                </a:lnTo>
                <a:cubicBezTo>
                  <a:pt x="64294" y="513556"/>
                  <a:pt x="114300" y="462756"/>
                  <a:pt x="142875" y="435768"/>
                </a:cubicBezTo>
                <a:lnTo>
                  <a:pt x="211931" y="371475"/>
                </a:lnTo>
                <a:lnTo>
                  <a:pt x="266700" y="323850"/>
                </a:lnTo>
                <a:lnTo>
                  <a:pt x="335756" y="2738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10"/>
          <p:cNvSpPr/>
          <p:nvPr/>
        </p:nvSpPr>
        <p:spPr>
          <a:xfrm>
            <a:off x="4675320" y="5151600"/>
            <a:ext cx="1590480" cy="668160"/>
          </a:xfrm>
          <a:custGeom>
            <a:avLst/>
            <a:gdLst/>
            <a:ahLst/>
            <a:rect l="l" t="t" r="r" b="b"/>
            <a:pathLst>
              <a:path w="1590675" h="669131">
                <a:moveTo>
                  <a:pt x="871537" y="669131"/>
                </a:moveTo>
                <a:lnTo>
                  <a:pt x="1197769" y="666750"/>
                </a:lnTo>
                <a:lnTo>
                  <a:pt x="1335881" y="657225"/>
                </a:lnTo>
                <a:lnTo>
                  <a:pt x="1452562" y="645319"/>
                </a:lnTo>
                <a:lnTo>
                  <a:pt x="1490662" y="635794"/>
                </a:lnTo>
                <a:lnTo>
                  <a:pt x="1528762" y="621506"/>
                </a:lnTo>
                <a:lnTo>
                  <a:pt x="1559719" y="604837"/>
                </a:lnTo>
                <a:lnTo>
                  <a:pt x="1578769" y="583406"/>
                </a:lnTo>
                <a:lnTo>
                  <a:pt x="1588294" y="557212"/>
                </a:lnTo>
                <a:lnTo>
                  <a:pt x="1590675" y="526256"/>
                </a:lnTo>
                <a:lnTo>
                  <a:pt x="1585912" y="509587"/>
                </a:lnTo>
                <a:lnTo>
                  <a:pt x="1564481" y="490537"/>
                </a:lnTo>
                <a:lnTo>
                  <a:pt x="1504950" y="445294"/>
                </a:lnTo>
                <a:lnTo>
                  <a:pt x="1438275" y="414337"/>
                </a:lnTo>
                <a:lnTo>
                  <a:pt x="1385887" y="402431"/>
                </a:lnTo>
                <a:lnTo>
                  <a:pt x="1331119" y="397669"/>
                </a:lnTo>
                <a:lnTo>
                  <a:pt x="1290637" y="402431"/>
                </a:lnTo>
                <a:lnTo>
                  <a:pt x="1235869" y="416719"/>
                </a:lnTo>
                <a:lnTo>
                  <a:pt x="1090612" y="452437"/>
                </a:lnTo>
                <a:lnTo>
                  <a:pt x="973931" y="473869"/>
                </a:lnTo>
                <a:lnTo>
                  <a:pt x="900112" y="485775"/>
                </a:lnTo>
                <a:lnTo>
                  <a:pt x="785812" y="492919"/>
                </a:lnTo>
                <a:lnTo>
                  <a:pt x="721519" y="485775"/>
                </a:lnTo>
                <a:lnTo>
                  <a:pt x="645319" y="464344"/>
                </a:lnTo>
                <a:lnTo>
                  <a:pt x="564356" y="426244"/>
                </a:lnTo>
                <a:lnTo>
                  <a:pt x="516731" y="385762"/>
                </a:lnTo>
                <a:lnTo>
                  <a:pt x="423862" y="288131"/>
                </a:lnTo>
                <a:lnTo>
                  <a:pt x="276225" y="116681"/>
                </a:lnTo>
                <a:lnTo>
                  <a:pt x="223837" y="69056"/>
                </a:lnTo>
                <a:lnTo>
                  <a:pt x="178594" y="40481"/>
                </a:lnTo>
                <a:lnTo>
                  <a:pt x="128587" y="16669"/>
                </a:lnTo>
                <a:lnTo>
                  <a:pt x="78581" y="4762"/>
                </a:lnTo>
                <a:lnTo>
                  <a:pt x="45244" y="0"/>
                </a:lnTo>
                <a:lnTo>
                  <a:pt x="0" y="0"/>
                </a:lnTo>
                <a:lnTo>
                  <a:pt x="0" y="109537"/>
                </a:lnTo>
                <a:lnTo>
                  <a:pt x="35719" y="111919"/>
                </a:lnTo>
                <a:lnTo>
                  <a:pt x="78581" y="116681"/>
                </a:lnTo>
                <a:lnTo>
                  <a:pt x="128587" y="130969"/>
                </a:lnTo>
                <a:lnTo>
                  <a:pt x="173831" y="164306"/>
                </a:lnTo>
                <a:lnTo>
                  <a:pt x="211931" y="219075"/>
                </a:lnTo>
                <a:lnTo>
                  <a:pt x="307181" y="347662"/>
                </a:lnTo>
                <a:lnTo>
                  <a:pt x="385762" y="457200"/>
                </a:lnTo>
                <a:lnTo>
                  <a:pt x="442912" y="540544"/>
                </a:lnTo>
                <a:lnTo>
                  <a:pt x="485775" y="592931"/>
                </a:lnTo>
                <a:lnTo>
                  <a:pt x="523875" y="623887"/>
                </a:lnTo>
                <a:lnTo>
                  <a:pt x="576262" y="650081"/>
                </a:lnTo>
                <a:lnTo>
                  <a:pt x="721519" y="666750"/>
                </a:lnTo>
                <a:lnTo>
                  <a:pt x="602456" y="654844"/>
                </a:lnTo>
                <a:lnTo>
                  <a:pt x="754856" y="669131"/>
                </a:lnTo>
                <a:lnTo>
                  <a:pt x="871537" y="6691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 repeatCount="100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6:52Z</dcterms:modified>
  <cp:revision>160</cp:revision>
  <dc:subject/>
  <dc:title>スライド 1</dc:title>
</cp:coreProperties>
</file>