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52560" y="685440"/>
            <a:ext cx="495288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99E58-0AF7-445D-8F5B-6416B928D308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画目を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分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5210A-CBBA-46A3-A579-1D51A61EFE39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F6DB9-8A39-4548-B2E7-50AB112E5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9CFAD-E986-402D-90BF-16B117887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DD864-B9D6-4A44-89F9-C338E0D62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76757-3AF9-4A59-A929-DC19B3BE0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5B7E0-B4E4-4D9A-A5A6-757C1E600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8A90E-6102-4109-B25A-765DBD043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87016-19B9-4E2A-9726-F1DF7C30C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4DAFF-FA05-49BD-BF9E-81CFE93E6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03E82-BE1D-4C39-958A-5F3FC3934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3D5CC-7255-4752-8F7E-E6781D840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1EA89-A4D6-452B-A8EC-EE99B3B7E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89415-2D91-4A2F-9210-D0961172F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4C36C-033F-44D5-B7C0-868C8A4A04E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テキスト ボックス 30" descr=""/>
          <p:cNvPicPr/>
          <p:nvPr/>
        </p:nvPicPr>
        <p:blipFill>
          <a:blip r:embed="rId1"/>
          <a:stretch/>
        </p:blipFill>
        <p:spPr>
          <a:xfrm>
            <a:off x="-1359000" y="-1805040"/>
            <a:ext cx="12569760" cy="11996640"/>
          </a:xfrm>
          <a:prstGeom prst="rect">
            <a:avLst/>
          </a:prstGeom>
          <a:ln w="0">
            <a:noFill/>
          </a:ln>
        </p:spPr>
      </p:pic>
      <p:sp>
        <p:nvSpPr>
          <p:cNvPr id="49" name="フリーフォーム 2"/>
          <p:cNvSpPr/>
          <p:nvPr/>
        </p:nvSpPr>
        <p:spPr>
          <a:xfrm>
            <a:off x="3641760" y="3629160"/>
            <a:ext cx="1442880" cy="428400"/>
          </a:xfrm>
          <a:custGeom>
            <a:avLst/>
            <a:gdLst/>
            <a:ahLst/>
            <a:rect l="l" t="t" r="r" b="b"/>
            <a:pathLst>
              <a:path w="1443038" h="428625">
                <a:moveTo>
                  <a:pt x="407194" y="240506"/>
                </a:moveTo>
                <a:lnTo>
                  <a:pt x="550069" y="200025"/>
                </a:lnTo>
                <a:lnTo>
                  <a:pt x="740569" y="138113"/>
                </a:lnTo>
                <a:lnTo>
                  <a:pt x="854869" y="107156"/>
                </a:lnTo>
                <a:lnTo>
                  <a:pt x="945357" y="78581"/>
                </a:lnTo>
                <a:lnTo>
                  <a:pt x="1016794" y="57150"/>
                </a:lnTo>
                <a:lnTo>
                  <a:pt x="1081088" y="26194"/>
                </a:lnTo>
                <a:lnTo>
                  <a:pt x="1121569" y="4763"/>
                </a:lnTo>
                <a:lnTo>
                  <a:pt x="1140619" y="0"/>
                </a:lnTo>
                <a:lnTo>
                  <a:pt x="1190625" y="4763"/>
                </a:lnTo>
                <a:lnTo>
                  <a:pt x="1285875" y="11906"/>
                </a:lnTo>
                <a:lnTo>
                  <a:pt x="1345407" y="23813"/>
                </a:lnTo>
                <a:lnTo>
                  <a:pt x="1383507" y="33338"/>
                </a:lnTo>
                <a:lnTo>
                  <a:pt x="1409700" y="40481"/>
                </a:lnTo>
                <a:lnTo>
                  <a:pt x="1421607" y="50006"/>
                </a:lnTo>
                <a:lnTo>
                  <a:pt x="1435894" y="71438"/>
                </a:lnTo>
                <a:lnTo>
                  <a:pt x="1443038" y="90488"/>
                </a:lnTo>
                <a:lnTo>
                  <a:pt x="1440657" y="107156"/>
                </a:lnTo>
                <a:lnTo>
                  <a:pt x="1428750" y="128588"/>
                </a:lnTo>
                <a:lnTo>
                  <a:pt x="1407319" y="150019"/>
                </a:lnTo>
                <a:lnTo>
                  <a:pt x="1366838" y="166688"/>
                </a:lnTo>
                <a:lnTo>
                  <a:pt x="1226344" y="195263"/>
                </a:lnTo>
                <a:lnTo>
                  <a:pt x="892969" y="273844"/>
                </a:lnTo>
                <a:lnTo>
                  <a:pt x="557213" y="352425"/>
                </a:lnTo>
                <a:lnTo>
                  <a:pt x="347663" y="411956"/>
                </a:lnTo>
                <a:lnTo>
                  <a:pt x="304800" y="428625"/>
                </a:lnTo>
                <a:lnTo>
                  <a:pt x="283369" y="428625"/>
                </a:lnTo>
                <a:lnTo>
                  <a:pt x="235744" y="426244"/>
                </a:lnTo>
                <a:lnTo>
                  <a:pt x="192882" y="414338"/>
                </a:lnTo>
                <a:lnTo>
                  <a:pt x="150019" y="392906"/>
                </a:lnTo>
                <a:lnTo>
                  <a:pt x="73819" y="326231"/>
                </a:lnTo>
                <a:lnTo>
                  <a:pt x="19050" y="264319"/>
                </a:lnTo>
                <a:lnTo>
                  <a:pt x="0" y="223838"/>
                </a:lnTo>
                <a:lnTo>
                  <a:pt x="0" y="204788"/>
                </a:lnTo>
                <a:lnTo>
                  <a:pt x="11907" y="190500"/>
                </a:lnTo>
                <a:lnTo>
                  <a:pt x="28575" y="190500"/>
                </a:lnTo>
                <a:lnTo>
                  <a:pt x="50007" y="202406"/>
                </a:lnTo>
                <a:lnTo>
                  <a:pt x="90488" y="228600"/>
                </a:lnTo>
                <a:lnTo>
                  <a:pt x="140494" y="252413"/>
                </a:lnTo>
                <a:lnTo>
                  <a:pt x="192882" y="269081"/>
                </a:lnTo>
                <a:lnTo>
                  <a:pt x="257175" y="273844"/>
                </a:lnTo>
                <a:lnTo>
                  <a:pt x="316707" y="264319"/>
                </a:lnTo>
                <a:lnTo>
                  <a:pt x="407194" y="24050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フリーフォーム 4"/>
          <p:cNvSpPr/>
          <p:nvPr/>
        </p:nvSpPr>
        <p:spPr>
          <a:xfrm rot="17400000">
            <a:off x="2831760" y="3837960"/>
            <a:ext cx="2824200" cy="1204920"/>
          </a:xfrm>
          <a:custGeom>
            <a:avLst/>
            <a:gdLst/>
            <a:ahLst/>
            <a:rect l="l" t="t" r="r" b="b"/>
            <a:pathLst>
              <a:path w="2824163" h="1204912">
                <a:moveTo>
                  <a:pt x="1343025" y="638175"/>
                </a:moveTo>
                <a:lnTo>
                  <a:pt x="1793081" y="473869"/>
                </a:lnTo>
                <a:lnTo>
                  <a:pt x="2064544" y="378619"/>
                </a:lnTo>
                <a:lnTo>
                  <a:pt x="2400300" y="273844"/>
                </a:lnTo>
                <a:lnTo>
                  <a:pt x="2471738" y="252412"/>
                </a:lnTo>
                <a:lnTo>
                  <a:pt x="2524125" y="230981"/>
                </a:lnTo>
                <a:lnTo>
                  <a:pt x="2569369" y="211931"/>
                </a:lnTo>
                <a:lnTo>
                  <a:pt x="2621756" y="183356"/>
                </a:lnTo>
                <a:lnTo>
                  <a:pt x="2662238" y="152400"/>
                </a:lnTo>
                <a:lnTo>
                  <a:pt x="2693194" y="123825"/>
                </a:lnTo>
                <a:lnTo>
                  <a:pt x="2714625" y="88106"/>
                </a:lnTo>
                <a:lnTo>
                  <a:pt x="2728913" y="54769"/>
                </a:lnTo>
                <a:lnTo>
                  <a:pt x="2740819" y="21431"/>
                </a:lnTo>
                <a:lnTo>
                  <a:pt x="2757488" y="7144"/>
                </a:lnTo>
                <a:lnTo>
                  <a:pt x="2769394" y="0"/>
                </a:lnTo>
                <a:lnTo>
                  <a:pt x="2783681" y="2381"/>
                </a:lnTo>
                <a:lnTo>
                  <a:pt x="2795588" y="11906"/>
                </a:lnTo>
                <a:lnTo>
                  <a:pt x="2809875" y="33337"/>
                </a:lnTo>
                <a:lnTo>
                  <a:pt x="2821781" y="61912"/>
                </a:lnTo>
                <a:lnTo>
                  <a:pt x="2824163" y="92869"/>
                </a:lnTo>
                <a:lnTo>
                  <a:pt x="2821781" y="133350"/>
                </a:lnTo>
                <a:lnTo>
                  <a:pt x="2807494" y="192881"/>
                </a:lnTo>
                <a:lnTo>
                  <a:pt x="2771775" y="304800"/>
                </a:lnTo>
                <a:lnTo>
                  <a:pt x="2724150" y="397669"/>
                </a:lnTo>
                <a:lnTo>
                  <a:pt x="2702719" y="423862"/>
                </a:lnTo>
                <a:lnTo>
                  <a:pt x="2690813" y="433387"/>
                </a:lnTo>
                <a:lnTo>
                  <a:pt x="2652713" y="435769"/>
                </a:lnTo>
                <a:lnTo>
                  <a:pt x="2593181" y="438150"/>
                </a:lnTo>
                <a:lnTo>
                  <a:pt x="2514600" y="457200"/>
                </a:lnTo>
                <a:lnTo>
                  <a:pt x="2443163" y="476250"/>
                </a:lnTo>
                <a:lnTo>
                  <a:pt x="2324100" y="511969"/>
                </a:lnTo>
                <a:lnTo>
                  <a:pt x="2162175" y="554831"/>
                </a:lnTo>
                <a:lnTo>
                  <a:pt x="1943100" y="631031"/>
                </a:lnTo>
                <a:lnTo>
                  <a:pt x="1697831" y="709612"/>
                </a:lnTo>
                <a:lnTo>
                  <a:pt x="1188244" y="888206"/>
                </a:lnTo>
                <a:lnTo>
                  <a:pt x="1095375" y="914400"/>
                </a:lnTo>
                <a:lnTo>
                  <a:pt x="952500" y="969169"/>
                </a:lnTo>
                <a:lnTo>
                  <a:pt x="626269" y="1088231"/>
                </a:lnTo>
                <a:lnTo>
                  <a:pt x="433388" y="1159669"/>
                </a:lnTo>
                <a:lnTo>
                  <a:pt x="326231" y="1188244"/>
                </a:lnTo>
                <a:lnTo>
                  <a:pt x="264319" y="1197769"/>
                </a:lnTo>
                <a:lnTo>
                  <a:pt x="180975" y="1204912"/>
                </a:lnTo>
                <a:lnTo>
                  <a:pt x="133350" y="1195387"/>
                </a:lnTo>
                <a:lnTo>
                  <a:pt x="85725" y="1178719"/>
                </a:lnTo>
                <a:lnTo>
                  <a:pt x="50006" y="1150144"/>
                </a:lnTo>
                <a:lnTo>
                  <a:pt x="21431" y="1114425"/>
                </a:lnTo>
                <a:lnTo>
                  <a:pt x="0" y="1076325"/>
                </a:lnTo>
                <a:lnTo>
                  <a:pt x="176213" y="995362"/>
                </a:lnTo>
                <a:lnTo>
                  <a:pt x="188119" y="1004887"/>
                </a:lnTo>
                <a:lnTo>
                  <a:pt x="204788" y="1019175"/>
                </a:lnTo>
                <a:lnTo>
                  <a:pt x="221456" y="1023937"/>
                </a:lnTo>
                <a:lnTo>
                  <a:pt x="247650" y="1026319"/>
                </a:lnTo>
                <a:lnTo>
                  <a:pt x="280988" y="1021556"/>
                </a:lnTo>
                <a:lnTo>
                  <a:pt x="385763" y="983456"/>
                </a:lnTo>
                <a:lnTo>
                  <a:pt x="676275" y="881062"/>
                </a:lnTo>
                <a:lnTo>
                  <a:pt x="845344" y="816769"/>
                </a:lnTo>
                <a:lnTo>
                  <a:pt x="1009650" y="759619"/>
                </a:lnTo>
                <a:lnTo>
                  <a:pt x="1207294" y="685800"/>
                </a:lnTo>
                <a:lnTo>
                  <a:pt x="1343025" y="63817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フリーフォーム 6"/>
          <p:cNvSpPr/>
          <p:nvPr/>
        </p:nvSpPr>
        <p:spPr>
          <a:xfrm>
            <a:off x="3719520" y="5475240"/>
            <a:ext cx="501480" cy="457200"/>
          </a:xfrm>
          <a:custGeom>
            <a:avLst/>
            <a:gdLst/>
            <a:ahLst/>
            <a:rect l="l" t="t" r="r" b="b"/>
            <a:pathLst>
              <a:path w="502443" h="457200">
                <a:moveTo>
                  <a:pt x="185737" y="326231"/>
                </a:moveTo>
                <a:lnTo>
                  <a:pt x="245268" y="376237"/>
                </a:lnTo>
                <a:lnTo>
                  <a:pt x="297656" y="407194"/>
                </a:lnTo>
                <a:lnTo>
                  <a:pt x="345281" y="431006"/>
                </a:lnTo>
                <a:lnTo>
                  <a:pt x="395287" y="447675"/>
                </a:lnTo>
                <a:lnTo>
                  <a:pt x="440531" y="457200"/>
                </a:lnTo>
                <a:lnTo>
                  <a:pt x="469106" y="457200"/>
                </a:lnTo>
                <a:lnTo>
                  <a:pt x="502443" y="457200"/>
                </a:lnTo>
                <a:lnTo>
                  <a:pt x="488156" y="254794"/>
                </a:lnTo>
                <a:lnTo>
                  <a:pt x="464343" y="269081"/>
                </a:lnTo>
                <a:lnTo>
                  <a:pt x="435768" y="273844"/>
                </a:lnTo>
                <a:lnTo>
                  <a:pt x="407193" y="276225"/>
                </a:lnTo>
                <a:lnTo>
                  <a:pt x="373856" y="276225"/>
                </a:lnTo>
                <a:lnTo>
                  <a:pt x="342900" y="271462"/>
                </a:lnTo>
                <a:lnTo>
                  <a:pt x="307181" y="261937"/>
                </a:lnTo>
                <a:lnTo>
                  <a:pt x="261937" y="240506"/>
                </a:lnTo>
                <a:lnTo>
                  <a:pt x="216693" y="207169"/>
                </a:lnTo>
                <a:lnTo>
                  <a:pt x="169068" y="161925"/>
                </a:lnTo>
                <a:lnTo>
                  <a:pt x="145256" y="126206"/>
                </a:lnTo>
                <a:lnTo>
                  <a:pt x="128587" y="90487"/>
                </a:lnTo>
                <a:lnTo>
                  <a:pt x="116681" y="47625"/>
                </a:lnTo>
                <a:lnTo>
                  <a:pt x="111918" y="11906"/>
                </a:lnTo>
                <a:lnTo>
                  <a:pt x="111918" y="0"/>
                </a:lnTo>
                <a:lnTo>
                  <a:pt x="0" y="0"/>
                </a:lnTo>
                <a:lnTo>
                  <a:pt x="0" y="9525"/>
                </a:lnTo>
                <a:lnTo>
                  <a:pt x="0" y="30956"/>
                </a:lnTo>
                <a:lnTo>
                  <a:pt x="4762" y="57150"/>
                </a:lnTo>
                <a:lnTo>
                  <a:pt x="11906" y="80962"/>
                </a:lnTo>
                <a:lnTo>
                  <a:pt x="21431" y="114300"/>
                </a:lnTo>
                <a:lnTo>
                  <a:pt x="35718" y="147637"/>
                </a:lnTo>
                <a:lnTo>
                  <a:pt x="54768" y="180975"/>
                </a:lnTo>
                <a:lnTo>
                  <a:pt x="83343" y="221456"/>
                </a:lnTo>
                <a:lnTo>
                  <a:pt x="114300" y="257175"/>
                </a:lnTo>
                <a:lnTo>
                  <a:pt x="185737" y="32623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フリーフォーム 7"/>
          <p:cNvSpPr/>
          <p:nvPr/>
        </p:nvSpPr>
        <p:spPr>
          <a:xfrm>
            <a:off x="3719520" y="4522680"/>
            <a:ext cx="1700280" cy="974880"/>
          </a:xfrm>
          <a:custGeom>
            <a:avLst/>
            <a:gdLst/>
            <a:ahLst/>
            <a:rect l="l" t="t" r="r" b="b"/>
            <a:pathLst>
              <a:path w="1700212" h="976312">
                <a:moveTo>
                  <a:pt x="276225" y="559594"/>
                </a:moveTo>
                <a:lnTo>
                  <a:pt x="376237" y="488156"/>
                </a:lnTo>
                <a:lnTo>
                  <a:pt x="504825" y="400050"/>
                </a:lnTo>
                <a:lnTo>
                  <a:pt x="640556" y="321469"/>
                </a:lnTo>
                <a:lnTo>
                  <a:pt x="771525" y="254794"/>
                </a:lnTo>
                <a:lnTo>
                  <a:pt x="871537" y="204787"/>
                </a:lnTo>
                <a:lnTo>
                  <a:pt x="992981" y="152400"/>
                </a:lnTo>
                <a:lnTo>
                  <a:pt x="1102518" y="114300"/>
                </a:lnTo>
                <a:lnTo>
                  <a:pt x="1197768" y="85725"/>
                </a:lnTo>
                <a:lnTo>
                  <a:pt x="1304925" y="59531"/>
                </a:lnTo>
                <a:lnTo>
                  <a:pt x="1423987" y="33337"/>
                </a:lnTo>
                <a:lnTo>
                  <a:pt x="1512093" y="16669"/>
                </a:lnTo>
                <a:lnTo>
                  <a:pt x="1569243" y="9525"/>
                </a:lnTo>
                <a:lnTo>
                  <a:pt x="1652587" y="4762"/>
                </a:lnTo>
                <a:lnTo>
                  <a:pt x="1700212" y="0"/>
                </a:lnTo>
                <a:lnTo>
                  <a:pt x="1700212" y="180975"/>
                </a:lnTo>
                <a:lnTo>
                  <a:pt x="1678781" y="180975"/>
                </a:lnTo>
                <a:lnTo>
                  <a:pt x="1588293" y="180975"/>
                </a:lnTo>
                <a:lnTo>
                  <a:pt x="1512093" y="183356"/>
                </a:lnTo>
                <a:lnTo>
                  <a:pt x="1423987" y="190500"/>
                </a:lnTo>
                <a:lnTo>
                  <a:pt x="1335881" y="197644"/>
                </a:lnTo>
                <a:lnTo>
                  <a:pt x="1264443" y="209550"/>
                </a:lnTo>
                <a:lnTo>
                  <a:pt x="1159668" y="235744"/>
                </a:lnTo>
                <a:lnTo>
                  <a:pt x="1016793" y="283369"/>
                </a:lnTo>
                <a:lnTo>
                  <a:pt x="909637" y="323850"/>
                </a:lnTo>
                <a:lnTo>
                  <a:pt x="812006" y="369094"/>
                </a:lnTo>
                <a:lnTo>
                  <a:pt x="716756" y="419100"/>
                </a:lnTo>
                <a:lnTo>
                  <a:pt x="497681" y="538162"/>
                </a:lnTo>
                <a:lnTo>
                  <a:pt x="411956" y="595312"/>
                </a:lnTo>
                <a:lnTo>
                  <a:pt x="304800" y="671512"/>
                </a:lnTo>
                <a:lnTo>
                  <a:pt x="238125" y="726281"/>
                </a:lnTo>
                <a:lnTo>
                  <a:pt x="180975" y="778669"/>
                </a:lnTo>
                <a:lnTo>
                  <a:pt x="142875" y="826294"/>
                </a:lnTo>
                <a:lnTo>
                  <a:pt x="121443" y="866775"/>
                </a:lnTo>
                <a:lnTo>
                  <a:pt x="109537" y="900112"/>
                </a:lnTo>
                <a:lnTo>
                  <a:pt x="107156" y="933450"/>
                </a:lnTo>
                <a:lnTo>
                  <a:pt x="111918" y="976312"/>
                </a:lnTo>
                <a:lnTo>
                  <a:pt x="0" y="971550"/>
                </a:lnTo>
                <a:lnTo>
                  <a:pt x="0" y="923925"/>
                </a:lnTo>
                <a:lnTo>
                  <a:pt x="4762" y="873919"/>
                </a:lnTo>
                <a:lnTo>
                  <a:pt x="16668" y="838200"/>
                </a:lnTo>
                <a:lnTo>
                  <a:pt x="33337" y="797719"/>
                </a:lnTo>
                <a:lnTo>
                  <a:pt x="59531" y="754856"/>
                </a:lnTo>
                <a:lnTo>
                  <a:pt x="95250" y="711994"/>
                </a:lnTo>
                <a:lnTo>
                  <a:pt x="145256" y="664369"/>
                </a:lnTo>
                <a:lnTo>
                  <a:pt x="204787" y="616744"/>
                </a:lnTo>
                <a:lnTo>
                  <a:pt x="276225" y="55959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フリーフォーム 8"/>
          <p:cNvSpPr/>
          <p:nvPr/>
        </p:nvSpPr>
        <p:spPr>
          <a:xfrm>
            <a:off x="5402160" y="4522680"/>
            <a:ext cx="793800" cy="544680"/>
          </a:xfrm>
          <a:custGeom>
            <a:avLst/>
            <a:gdLst/>
            <a:ahLst/>
            <a:rect l="l" t="t" r="r" b="b"/>
            <a:pathLst>
              <a:path w="792957" h="545306">
                <a:moveTo>
                  <a:pt x="197644" y="192881"/>
                </a:moveTo>
                <a:lnTo>
                  <a:pt x="104775" y="183356"/>
                </a:lnTo>
                <a:lnTo>
                  <a:pt x="47625" y="180975"/>
                </a:lnTo>
                <a:lnTo>
                  <a:pt x="2382" y="180975"/>
                </a:lnTo>
                <a:lnTo>
                  <a:pt x="0" y="2381"/>
                </a:lnTo>
                <a:lnTo>
                  <a:pt x="57150" y="0"/>
                </a:lnTo>
                <a:lnTo>
                  <a:pt x="152400" y="4762"/>
                </a:lnTo>
                <a:lnTo>
                  <a:pt x="221457" y="9525"/>
                </a:lnTo>
                <a:lnTo>
                  <a:pt x="321469" y="23812"/>
                </a:lnTo>
                <a:lnTo>
                  <a:pt x="381000" y="35719"/>
                </a:lnTo>
                <a:lnTo>
                  <a:pt x="433388" y="52387"/>
                </a:lnTo>
                <a:lnTo>
                  <a:pt x="478632" y="66675"/>
                </a:lnTo>
                <a:lnTo>
                  <a:pt x="533400" y="92869"/>
                </a:lnTo>
                <a:lnTo>
                  <a:pt x="578644" y="121444"/>
                </a:lnTo>
                <a:lnTo>
                  <a:pt x="614363" y="154781"/>
                </a:lnTo>
                <a:lnTo>
                  <a:pt x="657225" y="204787"/>
                </a:lnTo>
                <a:lnTo>
                  <a:pt x="695325" y="250031"/>
                </a:lnTo>
                <a:lnTo>
                  <a:pt x="735807" y="316706"/>
                </a:lnTo>
                <a:lnTo>
                  <a:pt x="764382" y="373856"/>
                </a:lnTo>
                <a:lnTo>
                  <a:pt x="783432" y="433387"/>
                </a:lnTo>
                <a:lnTo>
                  <a:pt x="792957" y="504825"/>
                </a:lnTo>
                <a:lnTo>
                  <a:pt x="792957" y="545306"/>
                </a:lnTo>
                <a:lnTo>
                  <a:pt x="569119" y="542925"/>
                </a:lnTo>
                <a:lnTo>
                  <a:pt x="569119" y="528637"/>
                </a:lnTo>
                <a:lnTo>
                  <a:pt x="564357" y="485775"/>
                </a:lnTo>
                <a:lnTo>
                  <a:pt x="554832" y="440531"/>
                </a:lnTo>
                <a:lnTo>
                  <a:pt x="533400" y="392906"/>
                </a:lnTo>
                <a:lnTo>
                  <a:pt x="497682" y="335756"/>
                </a:lnTo>
                <a:lnTo>
                  <a:pt x="461963" y="295275"/>
                </a:lnTo>
                <a:lnTo>
                  <a:pt x="411957" y="257175"/>
                </a:lnTo>
                <a:lnTo>
                  <a:pt x="354807" y="233362"/>
                </a:lnTo>
                <a:lnTo>
                  <a:pt x="283369" y="211931"/>
                </a:lnTo>
                <a:lnTo>
                  <a:pt x="197644" y="19288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フリーフォーム 9"/>
          <p:cNvSpPr/>
          <p:nvPr/>
        </p:nvSpPr>
        <p:spPr>
          <a:xfrm>
            <a:off x="5208480" y="5048280"/>
            <a:ext cx="987480" cy="819000"/>
          </a:xfrm>
          <a:custGeom>
            <a:avLst/>
            <a:gdLst/>
            <a:ahLst/>
            <a:rect l="l" t="t" r="r" b="b"/>
            <a:pathLst>
              <a:path w="988219" h="819150">
                <a:moveTo>
                  <a:pt x="611981" y="564356"/>
                </a:moveTo>
                <a:lnTo>
                  <a:pt x="690562" y="514350"/>
                </a:lnTo>
                <a:lnTo>
                  <a:pt x="759619" y="464344"/>
                </a:lnTo>
                <a:lnTo>
                  <a:pt x="821531" y="409575"/>
                </a:lnTo>
                <a:lnTo>
                  <a:pt x="859631" y="369094"/>
                </a:lnTo>
                <a:lnTo>
                  <a:pt x="902494" y="314325"/>
                </a:lnTo>
                <a:lnTo>
                  <a:pt x="928687" y="269081"/>
                </a:lnTo>
                <a:lnTo>
                  <a:pt x="952500" y="211931"/>
                </a:lnTo>
                <a:lnTo>
                  <a:pt x="971550" y="147638"/>
                </a:lnTo>
                <a:lnTo>
                  <a:pt x="983456" y="85725"/>
                </a:lnTo>
                <a:lnTo>
                  <a:pt x="988219" y="42863"/>
                </a:lnTo>
                <a:lnTo>
                  <a:pt x="988219" y="2381"/>
                </a:lnTo>
                <a:lnTo>
                  <a:pt x="764381" y="0"/>
                </a:lnTo>
                <a:lnTo>
                  <a:pt x="766762" y="47625"/>
                </a:lnTo>
                <a:lnTo>
                  <a:pt x="762000" y="85725"/>
                </a:lnTo>
                <a:lnTo>
                  <a:pt x="750094" y="138113"/>
                </a:lnTo>
                <a:lnTo>
                  <a:pt x="731044" y="192881"/>
                </a:lnTo>
                <a:lnTo>
                  <a:pt x="702469" y="252413"/>
                </a:lnTo>
                <a:lnTo>
                  <a:pt x="659606" y="314325"/>
                </a:lnTo>
                <a:lnTo>
                  <a:pt x="614362" y="364331"/>
                </a:lnTo>
                <a:lnTo>
                  <a:pt x="547687" y="426244"/>
                </a:lnTo>
                <a:lnTo>
                  <a:pt x="445294" y="504825"/>
                </a:lnTo>
                <a:lnTo>
                  <a:pt x="330994" y="578644"/>
                </a:lnTo>
                <a:lnTo>
                  <a:pt x="202406" y="652463"/>
                </a:lnTo>
                <a:lnTo>
                  <a:pt x="116681" y="702469"/>
                </a:lnTo>
                <a:lnTo>
                  <a:pt x="40481" y="742950"/>
                </a:lnTo>
                <a:cubicBezTo>
                  <a:pt x="26590" y="750491"/>
                  <a:pt x="40084" y="741760"/>
                  <a:pt x="33337" y="747713"/>
                </a:cubicBezTo>
                <a:lnTo>
                  <a:pt x="0" y="778669"/>
                </a:lnTo>
                <a:lnTo>
                  <a:pt x="0" y="790575"/>
                </a:lnTo>
                <a:lnTo>
                  <a:pt x="9525" y="807244"/>
                </a:lnTo>
                <a:lnTo>
                  <a:pt x="26194" y="812006"/>
                </a:lnTo>
                <a:lnTo>
                  <a:pt x="45244" y="819150"/>
                </a:lnTo>
                <a:lnTo>
                  <a:pt x="85725" y="804863"/>
                </a:lnTo>
                <a:lnTo>
                  <a:pt x="161925" y="776288"/>
                </a:lnTo>
                <a:lnTo>
                  <a:pt x="323850" y="709613"/>
                </a:lnTo>
                <a:lnTo>
                  <a:pt x="478631" y="638175"/>
                </a:lnTo>
                <a:lnTo>
                  <a:pt x="611981" y="56435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フリーフォーム 10"/>
          <p:cNvSpPr/>
          <p:nvPr/>
        </p:nvSpPr>
        <p:spPr>
          <a:xfrm>
            <a:off x="5526000" y="3319560"/>
            <a:ext cx="698760" cy="557280"/>
          </a:xfrm>
          <a:custGeom>
            <a:avLst/>
            <a:gdLst/>
            <a:ahLst/>
            <a:rect l="l" t="t" r="r" b="b"/>
            <a:pathLst>
              <a:path w="697707" h="557212">
                <a:moveTo>
                  <a:pt x="238125" y="38100"/>
                </a:moveTo>
                <a:lnTo>
                  <a:pt x="311944" y="64293"/>
                </a:lnTo>
                <a:lnTo>
                  <a:pt x="373857" y="90487"/>
                </a:lnTo>
                <a:lnTo>
                  <a:pt x="426244" y="116681"/>
                </a:lnTo>
                <a:lnTo>
                  <a:pt x="478632" y="150018"/>
                </a:lnTo>
                <a:lnTo>
                  <a:pt x="545307" y="202406"/>
                </a:lnTo>
                <a:lnTo>
                  <a:pt x="588169" y="247650"/>
                </a:lnTo>
                <a:lnTo>
                  <a:pt x="623888" y="290512"/>
                </a:lnTo>
                <a:lnTo>
                  <a:pt x="654844" y="335756"/>
                </a:lnTo>
                <a:lnTo>
                  <a:pt x="678657" y="373856"/>
                </a:lnTo>
                <a:lnTo>
                  <a:pt x="692944" y="407193"/>
                </a:lnTo>
                <a:lnTo>
                  <a:pt x="697707" y="440531"/>
                </a:lnTo>
                <a:lnTo>
                  <a:pt x="697707" y="469106"/>
                </a:lnTo>
                <a:lnTo>
                  <a:pt x="690563" y="511968"/>
                </a:lnTo>
                <a:lnTo>
                  <a:pt x="673894" y="540543"/>
                </a:lnTo>
                <a:lnTo>
                  <a:pt x="661988" y="550068"/>
                </a:lnTo>
                <a:lnTo>
                  <a:pt x="635794" y="557212"/>
                </a:lnTo>
                <a:lnTo>
                  <a:pt x="597694" y="554831"/>
                </a:lnTo>
                <a:lnTo>
                  <a:pt x="550069" y="547687"/>
                </a:lnTo>
                <a:lnTo>
                  <a:pt x="516732" y="535781"/>
                </a:lnTo>
                <a:lnTo>
                  <a:pt x="497682" y="514350"/>
                </a:lnTo>
                <a:lnTo>
                  <a:pt x="483394" y="483393"/>
                </a:lnTo>
                <a:lnTo>
                  <a:pt x="445294" y="421481"/>
                </a:lnTo>
                <a:lnTo>
                  <a:pt x="388144" y="340518"/>
                </a:lnTo>
                <a:lnTo>
                  <a:pt x="333375" y="273843"/>
                </a:lnTo>
                <a:lnTo>
                  <a:pt x="252413" y="195262"/>
                </a:lnTo>
                <a:lnTo>
                  <a:pt x="164307" y="123825"/>
                </a:lnTo>
                <a:lnTo>
                  <a:pt x="85725" y="76200"/>
                </a:lnTo>
                <a:lnTo>
                  <a:pt x="28575" y="50006"/>
                </a:lnTo>
                <a:lnTo>
                  <a:pt x="0" y="33337"/>
                </a:lnTo>
                <a:lnTo>
                  <a:pt x="0" y="14287"/>
                </a:lnTo>
                <a:lnTo>
                  <a:pt x="14288" y="0"/>
                </a:lnTo>
                <a:lnTo>
                  <a:pt x="30957" y="0"/>
                </a:lnTo>
                <a:lnTo>
                  <a:pt x="102394" y="4762"/>
                </a:lnTo>
                <a:lnTo>
                  <a:pt x="159544" y="19050"/>
                </a:lnTo>
                <a:lnTo>
                  <a:pt x="238125" y="381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75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2" presetSubtype="2" repeatCount="1000">
                                  <p:stCondLst>
                                    <p:cond delay="65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8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75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2" presetSubtype="1" repeatCount="1000">
                                  <p:stCondLst>
                                    <p:cond delay="165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2" presetSubtype="1" repeatCount="100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75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9T07:37:16Z</dcterms:created>
  <dc:creator/>
  <dc:description/>
  <dc:language>en-US</dc:language>
  <cp:lastModifiedBy>ASADA</cp:lastModifiedBy>
  <dcterms:modified xsi:type="dcterms:W3CDTF">2020-09-27T11:01:54Z</dcterms:modified>
  <cp:revision>155</cp:revision>
  <dc:subject/>
  <dc:title>スライド 1</dc:title>
</cp:coreProperties>
</file>