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93C9-72D1-4B7F-B498-83819C9EFCB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671F-252B-48A5-884B-9ED7F6B84FF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CF6B-5501-40ED-9871-FEF366D5A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F123-5743-4461-B83B-5F5927F7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C345-CE89-49DB-83C2-48682C877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CB5B-F61F-43FA-A7EB-84BA512A1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3E80-90A9-4B2F-B75B-876096D2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B7F0-594B-4A20-88E5-42DB9CB6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E46A-EB4A-4A67-9689-CAB92419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C12F-6D03-45EA-AEEB-2227C9CA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1B4B-A879-4ADA-B307-A29EE576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BE4B-F8BD-4B8D-8DC7-321CEDAB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6C89-3786-4B92-9287-AC0382D6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78DA-C373-4668-9F2C-4DEBCA2D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636B-0504-4324-82B0-9B5EC7D1F37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テキスト ボックス 30" descr=""/>
          <p:cNvPicPr/>
          <p:nvPr/>
        </p:nvPicPr>
        <p:blipFill>
          <a:blip r:embed="rId1"/>
          <a:stretch/>
        </p:blipFill>
        <p:spPr>
          <a:xfrm>
            <a:off x="-1359000" y="-1805040"/>
            <a:ext cx="12569760" cy="11996640"/>
          </a:xfrm>
          <a:prstGeom prst="rect">
            <a:avLst/>
          </a:prstGeom>
          <a:ln w="0">
            <a:noFill/>
          </a:ln>
        </p:spPr>
      </p:pic>
      <p:sp>
        <p:nvSpPr>
          <p:cNvPr id="49" name="フリーフォーム 2"/>
          <p:cNvSpPr/>
          <p:nvPr/>
        </p:nvSpPr>
        <p:spPr>
          <a:xfrm>
            <a:off x="4595760" y="2658960"/>
            <a:ext cx="793800" cy="540000"/>
          </a:xfrm>
          <a:custGeom>
            <a:avLst/>
            <a:gdLst/>
            <a:ahLst/>
            <a:rect l="l" t="t" r="r" b="b"/>
            <a:pathLst>
              <a:path w="792956" h="538163">
                <a:moveTo>
                  <a:pt x="411956" y="421482"/>
                </a:moveTo>
                <a:lnTo>
                  <a:pt x="476250" y="457200"/>
                </a:lnTo>
                <a:lnTo>
                  <a:pt x="576262" y="507207"/>
                </a:lnTo>
                <a:lnTo>
                  <a:pt x="619125" y="526257"/>
                </a:lnTo>
                <a:lnTo>
                  <a:pt x="664368" y="535782"/>
                </a:lnTo>
                <a:lnTo>
                  <a:pt x="716756" y="538163"/>
                </a:lnTo>
                <a:lnTo>
                  <a:pt x="754856" y="528638"/>
                </a:lnTo>
                <a:lnTo>
                  <a:pt x="778668" y="509588"/>
                </a:lnTo>
                <a:lnTo>
                  <a:pt x="792956" y="478632"/>
                </a:lnTo>
                <a:lnTo>
                  <a:pt x="788193" y="433388"/>
                </a:lnTo>
                <a:lnTo>
                  <a:pt x="764381" y="376238"/>
                </a:lnTo>
                <a:lnTo>
                  <a:pt x="719137" y="307182"/>
                </a:lnTo>
                <a:lnTo>
                  <a:pt x="657225" y="252413"/>
                </a:lnTo>
                <a:lnTo>
                  <a:pt x="590550" y="211932"/>
                </a:lnTo>
                <a:lnTo>
                  <a:pt x="557212" y="192882"/>
                </a:lnTo>
                <a:lnTo>
                  <a:pt x="516731" y="183357"/>
                </a:lnTo>
                <a:lnTo>
                  <a:pt x="414337" y="169069"/>
                </a:lnTo>
                <a:lnTo>
                  <a:pt x="304800" y="140494"/>
                </a:lnTo>
                <a:lnTo>
                  <a:pt x="238125" y="119063"/>
                </a:lnTo>
                <a:lnTo>
                  <a:pt x="152400" y="78582"/>
                </a:lnTo>
                <a:lnTo>
                  <a:pt x="85725" y="38100"/>
                </a:lnTo>
                <a:lnTo>
                  <a:pt x="64293" y="16669"/>
                </a:lnTo>
                <a:lnTo>
                  <a:pt x="38100" y="4763"/>
                </a:lnTo>
                <a:lnTo>
                  <a:pt x="19050" y="0"/>
                </a:lnTo>
                <a:lnTo>
                  <a:pt x="7143" y="2382"/>
                </a:lnTo>
                <a:lnTo>
                  <a:pt x="0" y="11907"/>
                </a:lnTo>
                <a:lnTo>
                  <a:pt x="2381" y="26194"/>
                </a:lnTo>
                <a:lnTo>
                  <a:pt x="14287" y="54769"/>
                </a:lnTo>
                <a:lnTo>
                  <a:pt x="45243" y="100013"/>
                </a:lnTo>
                <a:lnTo>
                  <a:pt x="83343" y="147638"/>
                </a:lnTo>
                <a:lnTo>
                  <a:pt x="145256" y="214313"/>
                </a:lnTo>
                <a:lnTo>
                  <a:pt x="200025" y="264319"/>
                </a:lnTo>
                <a:lnTo>
                  <a:pt x="288131" y="335757"/>
                </a:lnTo>
                <a:lnTo>
                  <a:pt x="340518" y="373857"/>
                </a:lnTo>
                <a:lnTo>
                  <a:pt x="411956" y="4214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フリーフォーム 3"/>
          <p:cNvSpPr/>
          <p:nvPr/>
        </p:nvSpPr>
        <p:spPr>
          <a:xfrm>
            <a:off x="4029120" y="3786120"/>
            <a:ext cx="1289160" cy="476280"/>
          </a:xfrm>
          <a:custGeom>
            <a:avLst/>
            <a:gdLst/>
            <a:ahLst/>
            <a:rect l="l" t="t" r="r" b="b"/>
            <a:pathLst>
              <a:path w="1288256" h="476250">
                <a:moveTo>
                  <a:pt x="566738" y="145256"/>
                </a:moveTo>
                <a:lnTo>
                  <a:pt x="702469" y="97631"/>
                </a:lnTo>
                <a:lnTo>
                  <a:pt x="838200" y="50006"/>
                </a:lnTo>
                <a:lnTo>
                  <a:pt x="952500" y="19050"/>
                </a:lnTo>
                <a:lnTo>
                  <a:pt x="1026319" y="4762"/>
                </a:lnTo>
                <a:lnTo>
                  <a:pt x="1078706" y="0"/>
                </a:lnTo>
                <a:lnTo>
                  <a:pt x="1119188" y="2381"/>
                </a:lnTo>
                <a:lnTo>
                  <a:pt x="1154906" y="4762"/>
                </a:lnTo>
                <a:lnTo>
                  <a:pt x="1202531" y="14287"/>
                </a:lnTo>
                <a:lnTo>
                  <a:pt x="1252538" y="28575"/>
                </a:lnTo>
                <a:lnTo>
                  <a:pt x="1288256" y="42862"/>
                </a:lnTo>
                <a:lnTo>
                  <a:pt x="1176338" y="159543"/>
                </a:lnTo>
                <a:lnTo>
                  <a:pt x="1152525" y="150018"/>
                </a:lnTo>
                <a:lnTo>
                  <a:pt x="1100138" y="138112"/>
                </a:lnTo>
                <a:lnTo>
                  <a:pt x="1045369" y="133350"/>
                </a:lnTo>
                <a:lnTo>
                  <a:pt x="978694" y="140493"/>
                </a:lnTo>
                <a:lnTo>
                  <a:pt x="895350" y="161925"/>
                </a:lnTo>
                <a:lnTo>
                  <a:pt x="807244" y="192881"/>
                </a:lnTo>
                <a:lnTo>
                  <a:pt x="709613" y="235743"/>
                </a:lnTo>
                <a:lnTo>
                  <a:pt x="614363" y="285750"/>
                </a:lnTo>
                <a:lnTo>
                  <a:pt x="533400" y="328612"/>
                </a:lnTo>
                <a:lnTo>
                  <a:pt x="416719" y="402431"/>
                </a:lnTo>
                <a:lnTo>
                  <a:pt x="378619" y="423862"/>
                </a:lnTo>
                <a:lnTo>
                  <a:pt x="354806" y="445293"/>
                </a:lnTo>
                <a:lnTo>
                  <a:pt x="319088" y="469106"/>
                </a:lnTo>
                <a:lnTo>
                  <a:pt x="292894" y="476250"/>
                </a:lnTo>
                <a:lnTo>
                  <a:pt x="266700" y="476250"/>
                </a:lnTo>
                <a:lnTo>
                  <a:pt x="240506" y="469106"/>
                </a:lnTo>
                <a:lnTo>
                  <a:pt x="178594" y="438150"/>
                </a:lnTo>
                <a:lnTo>
                  <a:pt x="111919" y="392906"/>
                </a:lnTo>
                <a:lnTo>
                  <a:pt x="50006" y="335756"/>
                </a:lnTo>
                <a:lnTo>
                  <a:pt x="21431" y="292893"/>
                </a:lnTo>
                <a:lnTo>
                  <a:pt x="0" y="238125"/>
                </a:lnTo>
                <a:lnTo>
                  <a:pt x="0" y="204787"/>
                </a:lnTo>
                <a:lnTo>
                  <a:pt x="2381" y="178593"/>
                </a:lnTo>
                <a:lnTo>
                  <a:pt x="9525" y="169068"/>
                </a:lnTo>
                <a:lnTo>
                  <a:pt x="21431" y="164306"/>
                </a:lnTo>
                <a:lnTo>
                  <a:pt x="33338" y="169068"/>
                </a:lnTo>
                <a:lnTo>
                  <a:pt x="45244" y="183356"/>
                </a:lnTo>
                <a:lnTo>
                  <a:pt x="59531" y="204787"/>
                </a:lnTo>
                <a:lnTo>
                  <a:pt x="85725" y="233362"/>
                </a:lnTo>
                <a:lnTo>
                  <a:pt x="123825" y="257175"/>
                </a:lnTo>
                <a:lnTo>
                  <a:pt x="157163" y="269081"/>
                </a:lnTo>
                <a:lnTo>
                  <a:pt x="200025" y="271462"/>
                </a:lnTo>
                <a:lnTo>
                  <a:pt x="259556" y="257175"/>
                </a:lnTo>
                <a:lnTo>
                  <a:pt x="385763" y="219075"/>
                </a:lnTo>
                <a:lnTo>
                  <a:pt x="566738" y="1452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フリーフォーム 5"/>
          <p:cNvSpPr/>
          <p:nvPr/>
        </p:nvSpPr>
        <p:spPr>
          <a:xfrm rot="18000000">
            <a:off x="3973680" y="4547520"/>
            <a:ext cx="2181240" cy="790560"/>
          </a:xfrm>
          <a:custGeom>
            <a:avLst/>
            <a:gdLst/>
            <a:ahLst/>
            <a:rect l="l" t="t" r="r" b="b"/>
            <a:pathLst>
              <a:path w="2181225" h="790575">
                <a:moveTo>
                  <a:pt x="1152525" y="576262"/>
                </a:moveTo>
                <a:lnTo>
                  <a:pt x="1285875" y="538162"/>
                </a:lnTo>
                <a:lnTo>
                  <a:pt x="1431131" y="488156"/>
                </a:lnTo>
                <a:lnTo>
                  <a:pt x="1578768" y="428625"/>
                </a:lnTo>
                <a:lnTo>
                  <a:pt x="1697831" y="371475"/>
                </a:lnTo>
                <a:lnTo>
                  <a:pt x="1793081" y="321469"/>
                </a:lnTo>
                <a:lnTo>
                  <a:pt x="1859756" y="273844"/>
                </a:lnTo>
                <a:lnTo>
                  <a:pt x="1914525" y="228600"/>
                </a:lnTo>
                <a:cubicBezTo>
                  <a:pt x="1923256" y="221456"/>
                  <a:pt x="1901428" y="242887"/>
                  <a:pt x="1912143" y="230981"/>
                </a:cubicBezTo>
                <a:lnTo>
                  <a:pt x="1978818" y="157162"/>
                </a:lnTo>
                <a:lnTo>
                  <a:pt x="2007393" y="107156"/>
                </a:lnTo>
                <a:lnTo>
                  <a:pt x="2026443" y="54769"/>
                </a:lnTo>
                <a:lnTo>
                  <a:pt x="2026443" y="28575"/>
                </a:lnTo>
                <a:lnTo>
                  <a:pt x="2026443" y="0"/>
                </a:lnTo>
                <a:lnTo>
                  <a:pt x="2176462" y="38100"/>
                </a:lnTo>
                <a:lnTo>
                  <a:pt x="2178843" y="66675"/>
                </a:lnTo>
                <a:lnTo>
                  <a:pt x="2181225" y="97631"/>
                </a:lnTo>
                <a:lnTo>
                  <a:pt x="2178843" y="147637"/>
                </a:lnTo>
                <a:lnTo>
                  <a:pt x="2171700" y="190500"/>
                </a:lnTo>
                <a:lnTo>
                  <a:pt x="2152650" y="254794"/>
                </a:lnTo>
                <a:lnTo>
                  <a:pt x="2109787" y="335756"/>
                </a:lnTo>
                <a:lnTo>
                  <a:pt x="2066925" y="392906"/>
                </a:lnTo>
                <a:lnTo>
                  <a:pt x="2000250" y="464344"/>
                </a:lnTo>
                <a:lnTo>
                  <a:pt x="1935956" y="511969"/>
                </a:lnTo>
                <a:lnTo>
                  <a:pt x="1847850" y="569119"/>
                </a:lnTo>
                <a:cubicBezTo>
                  <a:pt x="1830388" y="580628"/>
                  <a:pt x="1860947" y="567531"/>
                  <a:pt x="1831181" y="581025"/>
                </a:cubicBezTo>
                <a:lnTo>
                  <a:pt x="1669256" y="650081"/>
                </a:lnTo>
                <a:lnTo>
                  <a:pt x="1538287" y="688181"/>
                </a:lnTo>
                <a:lnTo>
                  <a:pt x="1397793" y="723900"/>
                </a:lnTo>
                <a:lnTo>
                  <a:pt x="1252537" y="754856"/>
                </a:lnTo>
                <a:lnTo>
                  <a:pt x="1150143" y="769144"/>
                </a:lnTo>
                <a:lnTo>
                  <a:pt x="1062037" y="781050"/>
                </a:lnTo>
                <a:lnTo>
                  <a:pt x="964406" y="785812"/>
                </a:lnTo>
                <a:lnTo>
                  <a:pt x="842962" y="788194"/>
                </a:lnTo>
                <a:lnTo>
                  <a:pt x="695325" y="790575"/>
                </a:lnTo>
                <a:lnTo>
                  <a:pt x="507206" y="790575"/>
                </a:lnTo>
                <a:lnTo>
                  <a:pt x="335756" y="781050"/>
                </a:lnTo>
                <a:lnTo>
                  <a:pt x="107156" y="769144"/>
                </a:lnTo>
                <a:lnTo>
                  <a:pt x="40481" y="764381"/>
                </a:lnTo>
                <a:lnTo>
                  <a:pt x="23812" y="757237"/>
                </a:lnTo>
                <a:lnTo>
                  <a:pt x="2381" y="738187"/>
                </a:lnTo>
                <a:lnTo>
                  <a:pt x="0" y="719137"/>
                </a:lnTo>
                <a:lnTo>
                  <a:pt x="9525" y="707231"/>
                </a:lnTo>
                <a:lnTo>
                  <a:pt x="50006" y="704850"/>
                </a:lnTo>
                <a:lnTo>
                  <a:pt x="133350" y="700087"/>
                </a:lnTo>
                <a:lnTo>
                  <a:pt x="304800" y="690562"/>
                </a:lnTo>
                <a:lnTo>
                  <a:pt x="481012" y="678656"/>
                </a:lnTo>
                <a:lnTo>
                  <a:pt x="669131" y="661987"/>
                </a:lnTo>
                <a:lnTo>
                  <a:pt x="823912" y="645319"/>
                </a:lnTo>
                <a:lnTo>
                  <a:pt x="988218" y="616744"/>
                </a:lnTo>
                <a:lnTo>
                  <a:pt x="1152525" y="5762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1" repeatCount="100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7:37:16Z</dcterms:created>
  <dc:creator/>
  <dc:description/>
  <dc:language>en-US</dc:language>
  <cp:lastModifiedBy>ASADA</cp:lastModifiedBy>
  <dcterms:modified xsi:type="dcterms:W3CDTF">2020-09-27T11:11:06Z</dcterms:modified>
  <cp:revision>153</cp:revision>
  <dc:subject/>
  <dc:title>スライド 1</dc:title>
</cp:coreProperties>
</file>