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E4CC-10EA-452E-A906-1A5A9B7336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7498-5CAA-45B1-B8F0-4FAB258D01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907-B6EA-4408-9E93-D3603F83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EE6-86BE-4708-85D2-8976B256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674-09E6-4398-BC48-6E08A6F5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7EB-754F-49DB-812C-3BD30B22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8A4-13C9-4748-93E7-B7AEE0E9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A94-C2BC-4F5A-B39F-8CC9DCCF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509-F32E-4ED4-9BB2-A20507A0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144-7B04-4EE6-AD01-084DAC21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028-34DC-4775-82FB-C349AC52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1B1-B45B-4C78-9AD9-2432AFB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C9A-5D72-42E3-AD28-F0F26AFB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5A8-F485-4723-9412-2E11678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F618-CA44-4BF4-B2DB-7560856EA3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テキスト ボックス 30" descr=""/>
          <p:cNvPicPr/>
          <p:nvPr/>
        </p:nvPicPr>
        <p:blipFill>
          <a:blip r:embed="rId1"/>
          <a:stretch/>
        </p:blipFill>
        <p:spPr>
          <a:xfrm>
            <a:off x="1951200" y="-139680"/>
            <a:ext cx="5979960" cy="7016760"/>
          </a:xfrm>
          <a:prstGeom prst="rect">
            <a:avLst/>
          </a:prstGeom>
          <a:ln w="0">
            <a:noFill/>
          </a:ln>
        </p:spPr>
      </p:pic>
      <p:sp>
        <p:nvSpPr>
          <p:cNvPr id="49" name="フリーフォーム 2"/>
          <p:cNvSpPr/>
          <p:nvPr/>
        </p:nvSpPr>
        <p:spPr>
          <a:xfrm>
            <a:off x="2487600" y="4795920"/>
            <a:ext cx="1257480" cy="1342800"/>
          </a:xfrm>
          <a:custGeom>
            <a:avLst/>
            <a:gdLst/>
            <a:ahLst/>
            <a:rect l="l" t="t" r="r" b="b"/>
            <a:pathLst>
              <a:path w="1257423" h="1344583">
                <a:moveTo>
                  <a:pt x="11815" y="15305"/>
                </a:moveTo>
                <a:cubicBezTo>
                  <a:pt x="40203" y="10713"/>
                  <a:pt x="46564" y="-4898"/>
                  <a:pt x="96979" y="1530"/>
                </a:cubicBezTo>
                <a:cubicBezTo>
                  <a:pt x="137237" y="14106"/>
                  <a:pt x="195192" y="39797"/>
                  <a:pt x="267127" y="71476"/>
                </a:cubicBezTo>
                <a:cubicBezTo>
                  <a:pt x="339062" y="103155"/>
                  <a:pt x="412746" y="145948"/>
                  <a:pt x="514824" y="208134"/>
                </a:cubicBezTo>
                <a:cubicBezTo>
                  <a:pt x="635497" y="294300"/>
                  <a:pt x="739650" y="344652"/>
                  <a:pt x="876843" y="466633"/>
                </a:cubicBezTo>
                <a:cubicBezTo>
                  <a:pt x="947794" y="530033"/>
                  <a:pt x="1029552" y="596189"/>
                  <a:pt x="1078477" y="659589"/>
                </a:cubicBezTo>
                <a:cubicBezTo>
                  <a:pt x="1108140" y="711501"/>
                  <a:pt x="1151570" y="749637"/>
                  <a:pt x="1181233" y="801549"/>
                </a:cubicBezTo>
                <a:lnTo>
                  <a:pt x="1233280" y="935575"/>
                </a:lnTo>
                <a:cubicBezTo>
                  <a:pt x="1252332" y="998292"/>
                  <a:pt x="1261458" y="1016567"/>
                  <a:pt x="1255729" y="1073773"/>
                </a:cubicBezTo>
                <a:cubicBezTo>
                  <a:pt x="1246405" y="1150150"/>
                  <a:pt x="1237084" y="1174179"/>
                  <a:pt x="1230514" y="1225760"/>
                </a:cubicBezTo>
                <a:cubicBezTo>
                  <a:pt x="1184266" y="1263023"/>
                  <a:pt x="1162797" y="1300286"/>
                  <a:pt x="1091769" y="1337548"/>
                </a:cubicBezTo>
                <a:cubicBezTo>
                  <a:pt x="1017008" y="1345088"/>
                  <a:pt x="975289" y="1363649"/>
                  <a:pt x="850968" y="1277519"/>
                </a:cubicBezTo>
                <a:cubicBezTo>
                  <a:pt x="770451" y="1157397"/>
                  <a:pt x="778038" y="1141963"/>
                  <a:pt x="741573" y="1074185"/>
                </a:cubicBezTo>
                <a:lnTo>
                  <a:pt x="592171" y="753337"/>
                </a:lnTo>
                <a:lnTo>
                  <a:pt x="442769" y="534560"/>
                </a:lnTo>
                <a:lnTo>
                  <a:pt x="269874" y="335068"/>
                </a:lnTo>
                <a:lnTo>
                  <a:pt x="137724" y="195014"/>
                </a:lnTo>
                <a:cubicBezTo>
                  <a:pt x="96672" y="145213"/>
                  <a:pt x="-40745" y="81636"/>
                  <a:pt x="11815" y="1530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>Toshinobu Asada</dc:creator>
  <dc:description/>
  <dc:language>en-US</dc:language>
  <cp:lastModifiedBy>Asada Toshinobu</cp:lastModifiedBy>
  <dcterms:modified xsi:type="dcterms:W3CDTF">2020-09-28T16:21:02Z</dcterms:modified>
  <cp:revision>69</cp:revision>
  <dc:subject/>
  <dc:title>スライド 1</dc:title>
</cp:coreProperties>
</file>