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7BF4-D5B6-40BB-B5A4-61288EC8CB1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4872-1221-4FF3-B9F0-52E8DB090ED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B14C-A59B-4DF8-8308-38AB64B1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E18E-D1D9-4A92-ACEB-D628288F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DDC4-9F3F-4063-855C-6DD5187A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6003-0945-4A6D-A463-256F1A87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C6D-65B0-4A0F-9D31-5379719C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ED4-574A-44D2-96E5-735DDF93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34F-08D2-4C5E-8283-20305E15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D07B-F9E2-4C2C-A87D-AE6484FC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6D3-42F5-4412-8D3C-C8C6F663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98BE-4B4C-4BE2-A82A-F9E4CB56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6698-A9E2-416F-AAFC-98BBAFB8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D9A3-B30F-4945-8AEB-E5E22E5B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F142-962C-4038-9472-A4C2AB6EE6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12"/>
          <p:cNvSpPr/>
          <p:nvPr/>
        </p:nvSpPr>
        <p:spPr>
          <a:xfrm>
            <a:off x="4514760" y="1778040"/>
            <a:ext cx="858960" cy="770040"/>
          </a:xfrm>
          <a:custGeom>
            <a:avLst/>
            <a:gdLst/>
            <a:ahLst/>
            <a:rect l="l" t="t" r="r" b="b"/>
            <a:pathLst>
              <a:path w="859631" h="769144">
                <a:moveTo>
                  <a:pt x="340519" y="71437"/>
                </a:moveTo>
                <a:lnTo>
                  <a:pt x="433387" y="111919"/>
                </a:lnTo>
                <a:lnTo>
                  <a:pt x="511969" y="159544"/>
                </a:lnTo>
                <a:lnTo>
                  <a:pt x="573881" y="202406"/>
                </a:lnTo>
                <a:lnTo>
                  <a:pt x="614362" y="238125"/>
                </a:lnTo>
                <a:lnTo>
                  <a:pt x="654844" y="276225"/>
                </a:lnTo>
                <a:lnTo>
                  <a:pt x="692944" y="319087"/>
                </a:lnTo>
                <a:lnTo>
                  <a:pt x="728662" y="366712"/>
                </a:lnTo>
                <a:lnTo>
                  <a:pt x="764381" y="421481"/>
                </a:lnTo>
                <a:lnTo>
                  <a:pt x="790575" y="471487"/>
                </a:lnTo>
                <a:lnTo>
                  <a:pt x="816769" y="531019"/>
                </a:lnTo>
                <a:lnTo>
                  <a:pt x="840581" y="595312"/>
                </a:lnTo>
                <a:lnTo>
                  <a:pt x="854869" y="633412"/>
                </a:lnTo>
                <a:lnTo>
                  <a:pt x="859631" y="645319"/>
                </a:lnTo>
                <a:lnTo>
                  <a:pt x="859631" y="664369"/>
                </a:lnTo>
                <a:cubicBezTo>
                  <a:pt x="857197" y="700879"/>
                  <a:pt x="857250" y="688155"/>
                  <a:pt x="857250" y="702469"/>
                </a:cubicBezTo>
                <a:lnTo>
                  <a:pt x="842962" y="731044"/>
                </a:lnTo>
                <a:lnTo>
                  <a:pt x="826294" y="752475"/>
                </a:lnTo>
                <a:lnTo>
                  <a:pt x="804862" y="764381"/>
                </a:lnTo>
                <a:lnTo>
                  <a:pt x="778669" y="769144"/>
                </a:lnTo>
                <a:lnTo>
                  <a:pt x="764381" y="769144"/>
                </a:lnTo>
                <a:lnTo>
                  <a:pt x="747712" y="766762"/>
                </a:lnTo>
                <a:lnTo>
                  <a:pt x="707231" y="754856"/>
                </a:lnTo>
                <a:lnTo>
                  <a:pt x="652462" y="742950"/>
                </a:lnTo>
                <a:lnTo>
                  <a:pt x="592931" y="738187"/>
                </a:lnTo>
                <a:lnTo>
                  <a:pt x="547687" y="735806"/>
                </a:lnTo>
                <a:lnTo>
                  <a:pt x="495300" y="590550"/>
                </a:lnTo>
                <a:lnTo>
                  <a:pt x="502444" y="564356"/>
                </a:lnTo>
                <a:lnTo>
                  <a:pt x="504825" y="528637"/>
                </a:lnTo>
                <a:lnTo>
                  <a:pt x="500062" y="495300"/>
                </a:lnTo>
                <a:lnTo>
                  <a:pt x="488156" y="466725"/>
                </a:lnTo>
                <a:lnTo>
                  <a:pt x="435769" y="390525"/>
                </a:lnTo>
                <a:lnTo>
                  <a:pt x="397669" y="333375"/>
                </a:lnTo>
                <a:lnTo>
                  <a:pt x="369094" y="304800"/>
                </a:lnTo>
                <a:lnTo>
                  <a:pt x="319087" y="254794"/>
                </a:lnTo>
                <a:lnTo>
                  <a:pt x="254794" y="200025"/>
                </a:lnTo>
                <a:lnTo>
                  <a:pt x="178594" y="140494"/>
                </a:lnTo>
                <a:lnTo>
                  <a:pt x="100012" y="90487"/>
                </a:lnTo>
                <a:lnTo>
                  <a:pt x="30956" y="57150"/>
                </a:lnTo>
                <a:lnTo>
                  <a:pt x="11906" y="47625"/>
                </a:lnTo>
                <a:lnTo>
                  <a:pt x="4762" y="40481"/>
                </a:lnTo>
                <a:lnTo>
                  <a:pt x="0" y="33337"/>
                </a:lnTo>
                <a:lnTo>
                  <a:pt x="0" y="23812"/>
                </a:lnTo>
                <a:lnTo>
                  <a:pt x="4762" y="11906"/>
                </a:lnTo>
                <a:lnTo>
                  <a:pt x="21431" y="0"/>
                </a:lnTo>
                <a:lnTo>
                  <a:pt x="38100" y="0"/>
                </a:lnTo>
                <a:lnTo>
                  <a:pt x="80962" y="4762"/>
                </a:lnTo>
                <a:lnTo>
                  <a:pt x="111919" y="9525"/>
                </a:lnTo>
                <a:lnTo>
                  <a:pt x="164306" y="19050"/>
                </a:lnTo>
                <a:cubicBezTo>
                  <a:pt x="175022" y="21035"/>
                  <a:pt x="190500" y="22622"/>
                  <a:pt x="204787" y="26194"/>
                </a:cubicBezTo>
                <a:lnTo>
                  <a:pt x="250031" y="40481"/>
                </a:lnTo>
                <a:lnTo>
                  <a:pt x="340519" y="714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14"/>
          <p:cNvSpPr/>
          <p:nvPr/>
        </p:nvSpPr>
        <p:spPr>
          <a:xfrm>
            <a:off x="2782800" y="4583160"/>
            <a:ext cx="549360" cy="1035000"/>
          </a:xfrm>
          <a:custGeom>
            <a:avLst/>
            <a:gdLst/>
            <a:ahLst/>
            <a:rect l="l" t="t" r="r" b="b"/>
            <a:pathLst>
              <a:path w="550069" h="1035844">
                <a:moveTo>
                  <a:pt x="133350" y="616744"/>
                </a:moveTo>
                <a:lnTo>
                  <a:pt x="90488" y="516732"/>
                </a:lnTo>
                <a:lnTo>
                  <a:pt x="64294" y="442913"/>
                </a:lnTo>
                <a:lnTo>
                  <a:pt x="42863" y="369094"/>
                </a:lnTo>
                <a:lnTo>
                  <a:pt x="28575" y="302419"/>
                </a:lnTo>
                <a:lnTo>
                  <a:pt x="14288" y="219075"/>
                </a:lnTo>
                <a:lnTo>
                  <a:pt x="4763" y="142875"/>
                </a:lnTo>
                <a:lnTo>
                  <a:pt x="0" y="83344"/>
                </a:lnTo>
                <a:lnTo>
                  <a:pt x="0" y="57150"/>
                </a:lnTo>
                <a:lnTo>
                  <a:pt x="0" y="30957"/>
                </a:lnTo>
                <a:lnTo>
                  <a:pt x="2381" y="11907"/>
                </a:lnTo>
                <a:lnTo>
                  <a:pt x="7144" y="7144"/>
                </a:lnTo>
                <a:lnTo>
                  <a:pt x="19050" y="0"/>
                </a:lnTo>
                <a:lnTo>
                  <a:pt x="26194" y="0"/>
                </a:lnTo>
                <a:lnTo>
                  <a:pt x="35719" y="2382"/>
                </a:lnTo>
                <a:lnTo>
                  <a:pt x="42863" y="16669"/>
                </a:lnTo>
                <a:lnTo>
                  <a:pt x="52388" y="42863"/>
                </a:lnTo>
                <a:lnTo>
                  <a:pt x="92869" y="147638"/>
                </a:lnTo>
                <a:lnTo>
                  <a:pt x="121444" y="214313"/>
                </a:lnTo>
                <a:lnTo>
                  <a:pt x="180975" y="330994"/>
                </a:lnTo>
                <a:lnTo>
                  <a:pt x="226219" y="404813"/>
                </a:lnTo>
                <a:lnTo>
                  <a:pt x="300038" y="509588"/>
                </a:lnTo>
                <a:lnTo>
                  <a:pt x="347663" y="559594"/>
                </a:lnTo>
                <a:lnTo>
                  <a:pt x="376238" y="585788"/>
                </a:lnTo>
                <a:lnTo>
                  <a:pt x="385763" y="588169"/>
                </a:lnTo>
                <a:lnTo>
                  <a:pt x="550069" y="990600"/>
                </a:lnTo>
                <a:lnTo>
                  <a:pt x="526256" y="1014413"/>
                </a:lnTo>
                <a:lnTo>
                  <a:pt x="504825" y="1028700"/>
                </a:lnTo>
                <a:lnTo>
                  <a:pt x="481013" y="1035844"/>
                </a:lnTo>
                <a:lnTo>
                  <a:pt x="466725" y="1035844"/>
                </a:lnTo>
                <a:lnTo>
                  <a:pt x="447675" y="1033463"/>
                </a:lnTo>
                <a:lnTo>
                  <a:pt x="421481" y="1019175"/>
                </a:lnTo>
                <a:lnTo>
                  <a:pt x="385763" y="990600"/>
                </a:lnTo>
                <a:lnTo>
                  <a:pt x="328613" y="931069"/>
                </a:lnTo>
                <a:lnTo>
                  <a:pt x="264319" y="842963"/>
                </a:lnTo>
                <a:lnTo>
                  <a:pt x="223838" y="788194"/>
                </a:lnTo>
                <a:lnTo>
                  <a:pt x="190500" y="728663"/>
                </a:lnTo>
                <a:lnTo>
                  <a:pt x="176213" y="702469"/>
                </a:lnTo>
                <a:lnTo>
                  <a:pt x="161925" y="678657"/>
                </a:lnTo>
                <a:lnTo>
                  <a:pt x="133350" y="6167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15"/>
          <p:cNvSpPr/>
          <p:nvPr/>
        </p:nvSpPr>
        <p:spPr>
          <a:xfrm>
            <a:off x="6138720" y="3967200"/>
            <a:ext cx="905040" cy="1184400"/>
          </a:xfrm>
          <a:custGeom>
            <a:avLst/>
            <a:gdLst/>
            <a:ahLst/>
            <a:rect l="l" t="t" r="r" b="b"/>
            <a:pathLst>
              <a:path w="904875" h="1183481">
                <a:moveTo>
                  <a:pt x="233362" y="104775"/>
                </a:moveTo>
                <a:lnTo>
                  <a:pt x="371475" y="190500"/>
                </a:lnTo>
                <a:lnTo>
                  <a:pt x="419100" y="226218"/>
                </a:lnTo>
                <a:lnTo>
                  <a:pt x="476250" y="269081"/>
                </a:lnTo>
                <a:lnTo>
                  <a:pt x="554831" y="340518"/>
                </a:lnTo>
                <a:lnTo>
                  <a:pt x="602456" y="388143"/>
                </a:lnTo>
                <a:lnTo>
                  <a:pt x="642937" y="435768"/>
                </a:lnTo>
                <a:lnTo>
                  <a:pt x="685800" y="495300"/>
                </a:lnTo>
                <a:lnTo>
                  <a:pt x="721518" y="550068"/>
                </a:lnTo>
                <a:lnTo>
                  <a:pt x="762000" y="623887"/>
                </a:lnTo>
                <a:lnTo>
                  <a:pt x="792956" y="678656"/>
                </a:lnTo>
                <a:lnTo>
                  <a:pt x="821531" y="742950"/>
                </a:lnTo>
                <a:lnTo>
                  <a:pt x="850106" y="807243"/>
                </a:lnTo>
                <a:lnTo>
                  <a:pt x="876300" y="876300"/>
                </a:lnTo>
                <a:lnTo>
                  <a:pt x="890587" y="931068"/>
                </a:lnTo>
                <a:lnTo>
                  <a:pt x="902493" y="990600"/>
                </a:lnTo>
                <a:lnTo>
                  <a:pt x="904875" y="1035843"/>
                </a:lnTo>
                <a:lnTo>
                  <a:pt x="902493" y="1088231"/>
                </a:lnTo>
                <a:lnTo>
                  <a:pt x="892968" y="1126331"/>
                </a:lnTo>
                <a:lnTo>
                  <a:pt x="876300" y="1147762"/>
                </a:lnTo>
                <a:lnTo>
                  <a:pt x="859631" y="1166812"/>
                </a:lnTo>
                <a:lnTo>
                  <a:pt x="833437" y="1178718"/>
                </a:lnTo>
                <a:lnTo>
                  <a:pt x="807243" y="1183481"/>
                </a:lnTo>
                <a:lnTo>
                  <a:pt x="771525" y="1183481"/>
                </a:lnTo>
                <a:lnTo>
                  <a:pt x="728662" y="1176337"/>
                </a:lnTo>
                <a:lnTo>
                  <a:pt x="678656" y="1147762"/>
                </a:lnTo>
                <a:lnTo>
                  <a:pt x="635793" y="1107281"/>
                </a:lnTo>
                <a:lnTo>
                  <a:pt x="604837" y="1062037"/>
                </a:lnTo>
                <a:lnTo>
                  <a:pt x="581025" y="1002506"/>
                </a:lnTo>
                <a:lnTo>
                  <a:pt x="554831" y="931068"/>
                </a:lnTo>
                <a:lnTo>
                  <a:pt x="521493" y="819150"/>
                </a:lnTo>
                <a:lnTo>
                  <a:pt x="440531" y="581025"/>
                </a:lnTo>
                <a:lnTo>
                  <a:pt x="407193" y="497681"/>
                </a:lnTo>
                <a:lnTo>
                  <a:pt x="392906" y="471487"/>
                </a:lnTo>
                <a:lnTo>
                  <a:pt x="323850" y="361950"/>
                </a:lnTo>
                <a:lnTo>
                  <a:pt x="266700" y="285750"/>
                </a:lnTo>
                <a:lnTo>
                  <a:pt x="188118" y="195262"/>
                </a:lnTo>
                <a:lnTo>
                  <a:pt x="135731" y="140493"/>
                </a:lnTo>
                <a:lnTo>
                  <a:pt x="78581" y="92868"/>
                </a:lnTo>
                <a:cubicBezTo>
                  <a:pt x="64294" y="81756"/>
                  <a:pt x="60722" y="81755"/>
                  <a:pt x="50006" y="73818"/>
                </a:cubicBezTo>
                <a:lnTo>
                  <a:pt x="14287" y="45243"/>
                </a:lnTo>
                <a:lnTo>
                  <a:pt x="7143" y="40481"/>
                </a:lnTo>
                <a:lnTo>
                  <a:pt x="2381" y="30956"/>
                </a:lnTo>
                <a:lnTo>
                  <a:pt x="0" y="19050"/>
                </a:lnTo>
                <a:lnTo>
                  <a:pt x="0" y="9525"/>
                </a:lnTo>
                <a:lnTo>
                  <a:pt x="7143" y="0"/>
                </a:lnTo>
                <a:lnTo>
                  <a:pt x="23812" y="0"/>
                </a:lnTo>
                <a:lnTo>
                  <a:pt x="45243" y="4762"/>
                </a:lnTo>
                <a:lnTo>
                  <a:pt x="69056" y="16668"/>
                </a:lnTo>
                <a:lnTo>
                  <a:pt x="97631" y="30956"/>
                </a:lnTo>
                <a:lnTo>
                  <a:pt x="145256" y="57150"/>
                </a:lnTo>
                <a:lnTo>
                  <a:pt x="233362" y="1047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16"/>
          <p:cNvSpPr/>
          <p:nvPr/>
        </p:nvSpPr>
        <p:spPr>
          <a:xfrm rot="16200000">
            <a:off x="3908160" y="3899880"/>
            <a:ext cx="1822680" cy="974880"/>
          </a:xfrm>
          <a:custGeom>
            <a:avLst/>
            <a:gdLst/>
            <a:ahLst/>
            <a:rect l="l" t="t" r="r" b="b"/>
            <a:pathLst>
              <a:path w="1821656" h="973931">
                <a:moveTo>
                  <a:pt x="342899" y="714375"/>
                </a:moveTo>
                <a:lnTo>
                  <a:pt x="490537" y="726281"/>
                </a:lnTo>
                <a:lnTo>
                  <a:pt x="552449" y="728663"/>
                </a:lnTo>
                <a:lnTo>
                  <a:pt x="607218" y="726281"/>
                </a:lnTo>
                <a:lnTo>
                  <a:pt x="676274" y="721519"/>
                </a:lnTo>
                <a:lnTo>
                  <a:pt x="742949" y="711994"/>
                </a:lnTo>
                <a:lnTo>
                  <a:pt x="828674" y="695325"/>
                </a:lnTo>
                <a:lnTo>
                  <a:pt x="916781" y="666750"/>
                </a:lnTo>
                <a:lnTo>
                  <a:pt x="1019174" y="633413"/>
                </a:lnTo>
                <a:lnTo>
                  <a:pt x="1145381" y="578644"/>
                </a:lnTo>
                <a:lnTo>
                  <a:pt x="1231106" y="526256"/>
                </a:lnTo>
                <a:lnTo>
                  <a:pt x="1343024" y="442913"/>
                </a:lnTo>
                <a:lnTo>
                  <a:pt x="1445418" y="361950"/>
                </a:lnTo>
                <a:lnTo>
                  <a:pt x="1533524" y="278606"/>
                </a:lnTo>
                <a:lnTo>
                  <a:pt x="1640681" y="161925"/>
                </a:lnTo>
                <a:lnTo>
                  <a:pt x="1724024" y="64294"/>
                </a:lnTo>
                <a:lnTo>
                  <a:pt x="1757362" y="19050"/>
                </a:lnTo>
                <a:lnTo>
                  <a:pt x="1766887" y="9525"/>
                </a:lnTo>
                <a:lnTo>
                  <a:pt x="1783556" y="4763"/>
                </a:lnTo>
                <a:lnTo>
                  <a:pt x="1797843" y="0"/>
                </a:lnTo>
                <a:lnTo>
                  <a:pt x="1807368" y="2381"/>
                </a:lnTo>
                <a:lnTo>
                  <a:pt x="1814512" y="9525"/>
                </a:lnTo>
                <a:lnTo>
                  <a:pt x="1821656" y="23813"/>
                </a:lnTo>
                <a:lnTo>
                  <a:pt x="1821656" y="35719"/>
                </a:lnTo>
                <a:lnTo>
                  <a:pt x="1814512" y="52388"/>
                </a:lnTo>
                <a:lnTo>
                  <a:pt x="1712118" y="207169"/>
                </a:lnTo>
                <a:lnTo>
                  <a:pt x="1607343" y="350044"/>
                </a:lnTo>
                <a:lnTo>
                  <a:pt x="1507331" y="466725"/>
                </a:lnTo>
                <a:lnTo>
                  <a:pt x="1373981" y="592931"/>
                </a:lnTo>
                <a:lnTo>
                  <a:pt x="1231106" y="709613"/>
                </a:lnTo>
                <a:lnTo>
                  <a:pt x="1102518" y="790575"/>
                </a:lnTo>
                <a:lnTo>
                  <a:pt x="862012" y="895350"/>
                </a:lnTo>
                <a:lnTo>
                  <a:pt x="726281" y="935831"/>
                </a:lnTo>
                <a:lnTo>
                  <a:pt x="604837" y="957263"/>
                </a:lnTo>
                <a:lnTo>
                  <a:pt x="540543" y="966788"/>
                </a:lnTo>
                <a:lnTo>
                  <a:pt x="495299" y="969169"/>
                </a:lnTo>
                <a:lnTo>
                  <a:pt x="447674" y="971550"/>
                </a:lnTo>
                <a:lnTo>
                  <a:pt x="392906" y="973931"/>
                </a:lnTo>
                <a:lnTo>
                  <a:pt x="340518" y="973931"/>
                </a:lnTo>
                <a:lnTo>
                  <a:pt x="283368" y="966788"/>
                </a:lnTo>
                <a:lnTo>
                  <a:pt x="188118" y="952500"/>
                </a:lnTo>
                <a:lnTo>
                  <a:pt x="126206" y="933450"/>
                </a:lnTo>
                <a:lnTo>
                  <a:pt x="57149" y="909638"/>
                </a:lnTo>
                <a:lnTo>
                  <a:pt x="2381" y="883444"/>
                </a:lnTo>
                <a:cubicBezTo>
                  <a:pt x="0" y="832247"/>
                  <a:pt x="30956" y="644525"/>
                  <a:pt x="42862" y="602456"/>
                </a:cubicBezTo>
                <a:lnTo>
                  <a:pt x="73818" y="631031"/>
                </a:lnTo>
                <a:lnTo>
                  <a:pt x="119062" y="657225"/>
                </a:lnTo>
                <a:lnTo>
                  <a:pt x="161924" y="676275"/>
                </a:lnTo>
                <a:lnTo>
                  <a:pt x="216693" y="692944"/>
                </a:lnTo>
                <a:lnTo>
                  <a:pt x="250031" y="700088"/>
                </a:lnTo>
                <a:lnTo>
                  <a:pt x="276224" y="704850"/>
                </a:lnTo>
                <a:lnTo>
                  <a:pt x="342899" y="7143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フリーフォーム 19"/>
          <p:cNvSpPr/>
          <p:nvPr/>
        </p:nvSpPr>
        <p:spPr>
          <a:xfrm rot="1200000">
            <a:off x="6087600" y="2452320"/>
            <a:ext cx="424080" cy="399960"/>
          </a:xfrm>
          <a:custGeom>
            <a:avLst/>
            <a:gdLst/>
            <a:ahLst/>
            <a:rect l="l" t="t" r="r" b="b"/>
            <a:pathLst>
              <a:path w="423862" h="400050">
                <a:moveTo>
                  <a:pt x="423862" y="290513"/>
                </a:moveTo>
                <a:lnTo>
                  <a:pt x="345281" y="280988"/>
                </a:lnTo>
                <a:lnTo>
                  <a:pt x="280987" y="257175"/>
                </a:lnTo>
                <a:lnTo>
                  <a:pt x="219075" y="214313"/>
                </a:lnTo>
                <a:lnTo>
                  <a:pt x="192881" y="188119"/>
                </a:lnTo>
                <a:lnTo>
                  <a:pt x="164306" y="152400"/>
                </a:lnTo>
                <a:lnTo>
                  <a:pt x="147637" y="126206"/>
                </a:lnTo>
                <a:lnTo>
                  <a:pt x="128587" y="80963"/>
                </a:lnTo>
                <a:lnTo>
                  <a:pt x="119062" y="42863"/>
                </a:lnTo>
                <a:lnTo>
                  <a:pt x="114300" y="14288"/>
                </a:lnTo>
                <a:lnTo>
                  <a:pt x="114300" y="0"/>
                </a:lnTo>
                <a:lnTo>
                  <a:pt x="0" y="0"/>
                </a:lnTo>
                <a:lnTo>
                  <a:pt x="2381" y="28575"/>
                </a:lnTo>
                <a:lnTo>
                  <a:pt x="9525" y="71438"/>
                </a:lnTo>
                <a:lnTo>
                  <a:pt x="21431" y="116681"/>
                </a:lnTo>
                <a:lnTo>
                  <a:pt x="35719" y="152400"/>
                </a:lnTo>
                <a:lnTo>
                  <a:pt x="59531" y="195263"/>
                </a:lnTo>
                <a:lnTo>
                  <a:pt x="83344" y="230981"/>
                </a:lnTo>
                <a:lnTo>
                  <a:pt x="123825" y="280988"/>
                </a:lnTo>
                <a:lnTo>
                  <a:pt x="166687" y="316706"/>
                </a:lnTo>
                <a:lnTo>
                  <a:pt x="207169" y="350044"/>
                </a:lnTo>
                <a:lnTo>
                  <a:pt x="261937" y="373856"/>
                </a:lnTo>
                <a:lnTo>
                  <a:pt x="311944" y="390525"/>
                </a:lnTo>
                <a:lnTo>
                  <a:pt x="366712" y="397669"/>
                </a:lnTo>
                <a:lnTo>
                  <a:pt x="411956" y="400050"/>
                </a:lnTo>
                <a:lnTo>
                  <a:pt x="423862" y="400050"/>
                </a:lnTo>
                <a:lnTo>
                  <a:pt x="423862" y="2905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フリーフォーム 11"/>
          <p:cNvSpPr/>
          <p:nvPr/>
        </p:nvSpPr>
        <p:spPr>
          <a:xfrm>
            <a:off x="4705200" y="2343240"/>
            <a:ext cx="400320" cy="236520"/>
          </a:xfrm>
          <a:custGeom>
            <a:avLst/>
            <a:gdLst/>
            <a:ahLst/>
            <a:rect l="l" t="t" r="r" b="b"/>
            <a:pathLst>
              <a:path w="400050" h="235744">
                <a:moveTo>
                  <a:pt x="309563" y="0"/>
                </a:moveTo>
                <a:lnTo>
                  <a:pt x="400050" y="173831"/>
                </a:lnTo>
                <a:lnTo>
                  <a:pt x="354806" y="171450"/>
                </a:lnTo>
                <a:lnTo>
                  <a:pt x="309563" y="178594"/>
                </a:lnTo>
                <a:lnTo>
                  <a:pt x="57150" y="230981"/>
                </a:lnTo>
                <a:lnTo>
                  <a:pt x="33338" y="235744"/>
                </a:lnTo>
                <a:lnTo>
                  <a:pt x="16669" y="235744"/>
                </a:lnTo>
                <a:lnTo>
                  <a:pt x="9525" y="228600"/>
                </a:lnTo>
                <a:lnTo>
                  <a:pt x="4763" y="221456"/>
                </a:lnTo>
                <a:lnTo>
                  <a:pt x="0" y="216694"/>
                </a:lnTo>
                <a:lnTo>
                  <a:pt x="2381" y="200025"/>
                </a:lnTo>
                <a:lnTo>
                  <a:pt x="21431" y="185738"/>
                </a:lnTo>
                <a:lnTo>
                  <a:pt x="85725" y="152400"/>
                </a:lnTo>
                <a:lnTo>
                  <a:pt x="283369" y="42863"/>
                </a:lnTo>
                <a:lnTo>
                  <a:pt x="302419" y="26194"/>
                </a:lnTo>
                <a:lnTo>
                  <a:pt x="30956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フリーフォーム 17"/>
          <p:cNvSpPr/>
          <p:nvPr/>
        </p:nvSpPr>
        <p:spPr>
          <a:xfrm rot="16200000">
            <a:off x="4408200" y="4700160"/>
            <a:ext cx="438120" cy="1225440"/>
          </a:xfrm>
          <a:custGeom>
            <a:avLst/>
            <a:gdLst/>
            <a:ahLst/>
            <a:rect l="l" t="t" r="r" b="b"/>
            <a:pathLst>
              <a:path w="438150" h="1226344">
                <a:moveTo>
                  <a:pt x="307181" y="947737"/>
                </a:moveTo>
                <a:lnTo>
                  <a:pt x="290512" y="1226344"/>
                </a:lnTo>
                <a:lnTo>
                  <a:pt x="235744" y="1200150"/>
                </a:lnTo>
                <a:lnTo>
                  <a:pt x="180975" y="1159669"/>
                </a:lnTo>
                <a:lnTo>
                  <a:pt x="157162" y="1135856"/>
                </a:lnTo>
                <a:lnTo>
                  <a:pt x="128587" y="1102519"/>
                </a:lnTo>
                <a:lnTo>
                  <a:pt x="90487" y="1052512"/>
                </a:lnTo>
                <a:lnTo>
                  <a:pt x="61912" y="1004887"/>
                </a:lnTo>
                <a:lnTo>
                  <a:pt x="38100" y="947737"/>
                </a:lnTo>
                <a:lnTo>
                  <a:pt x="16669" y="888206"/>
                </a:lnTo>
                <a:lnTo>
                  <a:pt x="4762" y="821531"/>
                </a:lnTo>
                <a:lnTo>
                  <a:pt x="0" y="745331"/>
                </a:lnTo>
                <a:lnTo>
                  <a:pt x="4762" y="671512"/>
                </a:lnTo>
                <a:lnTo>
                  <a:pt x="16669" y="592931"/>
                </a:lnTo>
                <a:lnTo>
                  <a:pt x="38100" y="516731"/>
                </a:lnTo>
                <a:lnTo>
                  <a:pt x="71437" y="431006"/>
                </a:lnTo>
                <a:lnTo>
                  <a:pt x="119062" y="338137"/>
                </a:lnTo>
                <a:lnTo>
                  <a:pt x="169069" y="264319"/>
                </a:lnTo>
                <a:lnTo>
                  <a:pt x="240506" y="180975"/>
                </a:lnTo>
                <a:lnTo>
                  <a:pt x="316706" y="88106"/>
                </a:lnTo>
                <a:lnTo>
                  <a:pt x="364331" y="35719"/>
                </a:lnTo>
                <a:lnTo>
                  <a:pt x="383381" y="14287"/>
                </a:lnTo>
                <a:lnTo>
                  <a:pt x="392906" y="4762"/>
                </a:lnTo>
                <a:lnTo>
                  <a:pt x="411956" y="0"/>
                </a:lnTo>
                <a:lnTo>
                  <a:pt x="426244" y="0"/>
                </a:lnTo>
                <a:lnTo>
                  <a:pt x="433387" y="4762"/>
                </a:lnTo>
                <a:lnTo>
                  <a:pt x="438150" y="16669"/>
                </a:lnTo>
                <a:lnTo>
                  <a:pt x="438150" y="28575"/>
                </a:lnTo>
                <a:lnTo>
                  <a:pt x="433387" y="45244"/>
                </a:lnTo>
                <a:lnTo>
                  <a:pt x="421481" y="69056"/>
                </a:lnTo>
                <a:lnTo>
                  <a:pt x="383381" y="116681"/>
                </a:lnTo>
                <a:lnTo>
                  <a:pt x="352425" y="157162"/>
                </a:lnTo>
                <a:lnTo>
                  <a:pt x="323850" y="200025"/>
                </a:lnTo>
                <a:lnTo>
                  <a:pt x="290512" y="247650"/>
                </a:lnTo>
                <a:lnTo>
                  <a:pt x="259556" y="304800"/>
                </a:lnTo>
                <a:lnTo>
                  <a:pt x="233362" y="354806"/>
                </a:lnTo>
                <a:lnTo>
                  <a:pt x="209550" y="419100"/>
                </a:lnTo>
                <a:lnTo>
                  <a:pt x="195262" y="478631"/>
                </a:lnTo>
                <a:lnTo>
                  <a:pt x="188119" y="545306"/>
                </a:lnTo>
                <a:lnTo>
                  <a:pt x="183356" y="609600"/>
                </a:lnTo>
                <a:cubicBezTo>
                  <a:pt x="182562" y="631031"/>
                  <a:pt x="181769" y="652463"/>
                  <a:pt x="180975" y="673894"/>
                </a:cubicBezTo>
                <a:lnTo>
                  <a:pt x="185737" y="721519"/>
                </a:lnTo>
                <a:lnTo>
                  <a:pt x="200025" y="783431"/>
                </a:lnTo>
                <a:lnTo>
                  <a:pt x="216694" y="826294"/>
                </a:lnTo>
                <a:lnTo>
                  <a:pt x="245269" y="873919"/>
                </a:lnTo>
                <a:lnTo>
                  <a:pt x="276225" y="919162"/>
                </a:lnTo>
                <a:lnTo>
                  <a:pt x="307181" y="9477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フリーフォーム 13"/>
          <p:cNvSpPr/>
          <p:nvPr/>
        </p:nvSpPr>
        <p:spPr>
          <a:xfrm>
            <a:off x="3157560" y="5005440"/>
            <a:ext cx="307800" cy="593640"/>
          </a:xfrm>
          <a:custGeom>
            <a:avLst/>
            <a:gdLst/>
            <a:ahLst/>
            <a:rect l="l" t="t" r="r" b="b"/>
            <a:pathLst>
              <a:path w="307181" h="592931">
                <a:moveTo>
                  <a:pt x="150018" y="592931"/>
                </a:moveTo>
                <a:lnTo>
                  <a:pt x="0" y="164306"/>
                </a:lnTo>
                <a:lnTo>
                  <a:pt x="9525" y="166687"/>
                </a:lnTo>
                <a:lnTo>
                  <a:pt x="26193" y="166687"/>
                </a:lnTo>
                <a:lnTo>
                  <a:pt x="42862" y="161925"/>
                </a:lnTo>
                <a:lnTo>
                  <a:pt x="80962" y="145256"/>
                </a:lnTo>
                <a:lnTo>
                  <a:pt x="154781" y="95250"/>
                </a:lnTo>
                <a:lnTo>
                  <a:pt x="211931" y="42862"/>
                </a:lnTo>
                <a:lnTo>
                  <a:pt x="250031" y="11906"/>
                </a:lnTo>
                <a:lnTo>
                  <a:pt x="264318" y="2381"/>
                </a:lnTo>
                <a:lnTo>
                  <a:pt x="280987" y="0"/>
                </a:lnTo>
                <a:lnTo>
                  <a:pt x="295275" y="2381"/>
                </a:lnTo>
                <a:lnTo>
                  <a:pt x="304800" y="11906"/>
                </a:lnTo>
                <a:lnTo>
                  <a:pt x="307181" y="23812"/>
                </a:lnTo>
                <a:lnTo>
                  <a:pt x="300037" y="38100"/>
                </a:lnTo>
                <a:lnTo>
                  <a:pt x="276225" y="83343"/>
                </a:lnTo>
                <a:lnTo>
                  <a:pt x="254793" y="119062"/>
                </a:lnTo>
                <a:lnTo>
                  <a:pt x="235743" y="164306"/>
                </a:lnTo>
                <a:lnTo>
                  <a:pt x="221456" y="207168"/>
                </a:lnTo>
                <a:lnTo>
                  <a:pt x="211931" y="247650"/>
                </a:lnTo>
                <a:lnTo>
                  <a:pt x="207168" y="278606"/>
                </a:lnTo>
                <a:lnTo>
                  <a:pt x="204787" y="316706"/>
                </a:lnTo>
                <a:lnTo>
                  <a:pt x="204787" y="383381"/>
                </a:lnTo>
                <a:lnTo>
                  <a:pt x="204787" y="438150"/>
                </a:lnTo>
                <a:lnTo>
                  <a:pt x="202406" y="478631"/>
                </a:lnTo>
                <a:cubicBezTo>
                  <a:pt x="197531" y="512754"/>
                  <a:pt x="197643" y="500743"/>
                  <a:pt x="197643" y="514350"/>
                </a:cubicBezTo>
                <a:lnTo>
                  <a:pt x="188118" y="540543"/>
                </a:lnTo>
                <a:lnTo>
                  <a:pt x="173831" y="569118"/>
                </a:lnTo>
                <a:lnTo>
                  <a:pt x="150018" y="5929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フリーフォーム 18"/>
          <p:cNvSpPr/>
          <p:nvPr/>
        </p:nvSpPr>
        <p:spPr>
          <a:xfrm rot="1200000">
            <a:off x="6230520" y="2030400"/>
            <a:ext cx="424080" cy="458640"/>
          </a:xfrm>
          <a:custGeom>
            <a:avLst/>
            <a:gdLst/>
            <a:ahLst/>
            <a:rect l="l" t="t" r="r" b="b"/>
            <a:pathLst>
              <a:path w="423862" h="459581">
                <a:moveTo>
                  <a:pt x="423862" y="0"/>
                </a:moveTo>
                <a:lnTo>
                  <a:pt x="364331" y="2381"/>
                </a:lnTo>
                <a:lnTo>
                  <a:pt x="319087" y="11906"/>
                </a:lnTo>
                <a:lnTo>
                  <a:pt x="261937" y="30956"/>
                </a:lnTo>
                <a:lnTo>
                  <a:pt x="223837" y="47625"/>
                </a:lnTo>
                <a:lnTo>
                  <a:pt x="192881" y="64294"/>
                </a:lnTo>
                <a:lnTo>
                  <a:pt x="169069" y="80963"/>
                </a:lnTo>
                <a:lnTo>
                  <a:pt x="135731" y="109538"/>
                </a:lnTo>
                <a:lnTo>
                  <a:pt x="102394" y="147638"/>
                </a:lnTo>
                <a:lnTo>
                  <a:pt x="73819" y="185738"/>
                </a:lnTo>
                <a:lnTo>
                  <a:pt x="45244" y="233363"/>
                </a:lnTo>
                <a:lnTo>
                  <a:pt x="28575" y="273844"/>
                </a:lnTo>
                <a:lnTo>
                  <a:pt x="9525" y="345281"/>
                </a:lnTo>
                <a:lnTo>
                  <a:pt x="4762" y="390525"/>
                </a:lnTo>
                <a:lnTo>
                  <a:pt x="2381" y="435769"/>
                </a:lnTo>
                <a:lnTo>
                  <a:pt x="0" y="459581"/>
                </a:lnTo>
                <a:lnTo>
                  <a:pt x="116681" y="457200"/>
                </a:lnTo>
                <a:lnTo>
                  <a:pt x="116681" y="414338"/>
                </a:lnTo>
                <a:lnTo>
                  <a:pt x="119062" y="366713"/>
                </a:lnTo>
                <a:lnTo>
                  <a:pt x="123825" y="340519"/>
                </a:lnTo>
                <a:lnTo>
                  <a:pt x="133350" y="307181"/>
                </a:lnTo>
                <a:lnTo>
                  <a:pt x="154781" y="264319"/>
                </a:lnTo>
                <a:lnTo>
                  <a:pt x="188119" y="216694"/>
                </a:lnTo>
                <a:lnTo>
                  <a:pt x="221456" y="188119"/>
                </a:lnTo>
                <a:lnTo>
                  <a:pt x="252412" y="164306"/>
                </a:lnTo>
                <a:lnTo>
                  <a:pt x="295275" y="138113"/>
                </a:lnTo>
                <a:lnTo>
                  <a:pt x="342900" y="121444"/>
                </a:lnTo>
                <a:lnTo>
                  <a:pt x="381000" y="114300"/>
                </a:lnTo>
                <a:lnTo>
                  <a:pt x="423862" y="114300"/>
                </a:lnTo>
                <a:lnTo>
                  <a:pt x="42386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フリーフォーム 23"/>
          <p:cNvSpPr/>
          <p:nvPr/>
        </p:nvSpPr>
        <p:spPr>
          <a:xfrm rot="1200000">
            <a:off x="6609960" y="2174760"/>
            <a:ext cx="447840" cy="460440"/>
          </a:xfrm>
          <a:custGeom>
            <a:avLst/>
            <a:gdLst/>
            <a:ahLst/>
            <a:rect l="l" t="t" r="r" b="b"/>
            <a:pathLst>
              <a:path w="447675" h="459582">
                <a:moveTo>
                  <a:pt x="302419" y="102394"/>
                </a:moveTo>
                <a:lnTo>
                  <a:pt x="259557" y="66675"/>
                </a:lnTo>
                <a:lnTo>
                  <a:pt x="238125" y="52388"/>
                </a:lnTo>
                <a:lnTo>
                  <a:pt x="207169" y="38100"/>
                </a:lnTo>
                <a:lnTo>
                  <a:pt x="171450" y="21432"/>
                </a:lnTo>
                <a:lnTo>
                  <a:pt x="138113" y="11907"/>
                </a:lnTo>
                <a:lnTo>
                  <a:pt x="92869" y="2382"/>
                </a:lnTo>
                <a:lnTo>
                  <a:pt x="66675" y="0"/>
                </a:lnTo>
                <a:lnTo>
                  <a:pt x="47625" y="0"/>
                </a:lnTo>
                <a:lnTo>
                  <a:pt x="2382" y="0"/>
                </a:lnTo>
                <a:lnTo>
                  <a:pt x="0" y="111919"/>
                </a:lnTo>
                <a:lnTo>
                  <a:pt x="59532" y="114300"/>
                </a:lnTo>
                <a:lnTo>
                  <a:pt x="95250" y="119063"/>
                </a:lnTo>
                <a:lnTo>
                  <a:pt x="133350" y="126207"/>
                </a:lnTo>
                <a:lnTo>
                  <a:pt x="161925" y="140494"/>
                </a:lnTo>
                <a:lnTo>
                  <a:pt x="192882" y="159544"/>
                </a:lnTo>
                <a:lnTo>
                  <a:pt x="223838" y="183357"/>
                </a:lnTo>
                <a:lnTo>
                  <a:pt x="245269" y="202407"/>
                </a:lnTo>
                <a:lnTo>
                  <a:pt x="261938" y="221457"/>
                </a:lnTo>
                <a:lnTo>
                  <a:pt x="280988" y="247650"/>
                </a:lnTo>
                <a:lnTo>
                  <a:pt x="297657" y="271463"/>
                </a:lnTo>
                <a:lnTo>
                  <a:pt x="314325" y="314325"/>
                </a:lnTo>
                <a:lnTo>
                  <a:pt x="321469" y="338138"/>
                </a:lnTo>
                <a:lnTo>
                  <a:pt x="328613" y="373857"/>
                </a:lnTo>
                <a:lnTo>
                  <a:pt x="335757" y="411957"/>
                </a:lnTo>
                <a:lnTo>
                  <a:pt x="335757" y="445294"/>
                </a:lnTo>
                <a:lnTo>
                  <a:pt x="335757" y="457200"/>
                </a:lnTo>
                <a:lnTo>
                  <a:pt x="447675" y="459582"/>
                </a:lnTo>
                <a:lnTo>
                  <a:pt x="445294" y="414338"/>
                </a:lnTo>
                <a:lnTo>
                  <a:pt x="442913" y="369094"/>
                </a:lnTo>
                <a:lnTo>
                  <a:pt x="433388" y="321469"/>
                </a:lnTo>
                <a:lnTo>
                  <a:pt x="423863" y="288132"/>
                </a:lnTo>
                <a:lnTo>
                  <a:pt x="414338" y="254794"/>
                </a:lnTo>
                <a:lnTo>
                  <a:pt x="390525" y="214313"/>
                </a:lnTo>
                <a:lnTo>
                  <a:pt x="369094" y="178594"/>
                </a:lnTo>
                <a:lnTo>
                  <a:pt x="350044" y="154782"/>
                </a:lnTo>
                <a:lnTo>
                  <a:pt x="338138" y="138113"/>
                </a:lnTo>
                <a:lnTo>
                  <a:pt x="302419" y="1023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フリーフォーム 24"/>
          <p:cNvSpPr/>
          <p:nvPr/>
        </p:nvSpPr>
        <p:spPr>
          <a:xfrm rot="1200000">
            <a:off x="6473880" y="2588760"/>
            <a:ext cx="439560" cy="406440"/>
          </a:xfrm>
          <a:custGeom>
            <a:avLst/>
            <a:gdLst/>
            <a:ahLst/>
            <a:rect l="l" t="t" r="r" b="b"/>
            <a:pathLst>
              <a:path w="440531" h="407194">
                <a:moveTo>
                  <a:pt x="202406" y="235744"/>
                </a:moveTo>
                <a:lnTo>
                  <a:pt x="240506" y="202407"/>
                </a:lnTo>
                <a:lnTo>
                  <a:pt x="261937" y="178594"/>
                </a:lnTo>
                <a:lnTo>
                  <a:pt x="276225" y="161925"/>
                </a:lnTo>
                <a:lnTo>
                  <a:pt x="288131" y="142875"/>
                </a:lnTo>
                <a:lnTo>
                  <a:pt x="302419" y="116682"/>
                </a:lnTo>
                <a:lnTo>
                  <a:pt x="311944" y="95250"/>
                </a:lnTo>
                <a:lnTo>
                  <a:pt x="321469" y="71438"/>
                </a:lnTo>
                <a:lnTo>
                  <a:pt x="328612" y="45244"/>
                </a:lnTo>
                <a:lnTo>
                  <a:pt x="330994" y="26194"/>
                </a:lnTo>
                <a:lnTo>
                  <a:pt x="330994" y="14288"/>
                </a:lnTo>
                <a:lnTo>
                  <a:pt x="330994" y="0"/>
                </a:lnTo>
                <a:lnTo>
                  <a:pt x="438150" y="2382"/>
                </a:lnTo>
                <a:lnTo>
                  <a:pt x="440531" y="2382"/>
                </a:lnTo>
                <a:lnTo>
                  <a:pt x="440531" y="38100"/>
                </a:lnTo>
                <a:lnTo>
                  <a:pt x="435769" y="61913"/>
                </a:lnTo>
                <a:lnTo>
                  <a:pt x="431006" y="92869"/>
                </a:lnTo>
                <a:lnTo>
                  <a:pt x="421481" y="126207"/>
                </a:lnTo>
                <a:lnTo>
                  <a:pt x="404812" y="166688"/>
                </a:lnTo>
                <a:lnTo>
                  <a:pt x="381000" y="204788"/>
                </a:lnTo>
                <a:lnTo>
                  <a:pt x="350044" y="252413"/>
                </a:lnTo>
                <a:lnTo>
                  <a:pt x="316706" y="285750"/>
                </a:lnTo>
                <a:lnTo>
                  <a:pt x="283369" y="316707"/>
                </a:lnTo>
                <a:lnTo>
                  <a:pt x="252412" y="342900"/>
                </a:lnTo>
                <a:lnTo>
                  <a:pt x="211931" y="366713"/>
                </a:lnTo>
                <a:lnTo>
                  <a:pt x="173831" y="383382"/>
                </a:lnTo>
                <a:lnTo>
                  <a:pt x="128587" y="392907"/>
                </a:lnTo>
                <a:lnTo>
                  <a:pt x="90487" y="400050"/>
                </a:lnTo>
                <a:lnTo>
                  <a:pt x="69056" y="402432"/>
                </a:lnTo>
                <a:lnTo>
                  <a:pt x="50006" y="404813"/>
                </a:lnTo>
                <a:lnTo>
                  <a:pt x="33337" y="404813"/>
                </a:lnTo>
                <a:lnTo>
                  <a:pt x="2381" y="407194"/>
                </a:lnTo>
                <a:cubicBezTo>
                  <a:pt x="1587" y="369888"/>
                  <a:pt x="794" y="332581"/>
                  <a:pt x="0" y="295275"/>
                </a:cubicBezTo>
                <a:lnTo>
                  <a:pt x="26194" y="297657"/>
                </a:lnTo>
                <a:lnTo>
                  <a:pt x="52387" y="292894"/>
                </a:lnTo>
                <a:lnTo>
                  <a:pt x="97631" y="288132"/>
                </a:lnTo>
                <a:lnTo>
                  <a:pt x="126206" y="280988"/>
                </a:lnTo>
                <a:lnTo>
                  <a:pt x="152400" y="271463"/>
                </a:lnTo>
                <a:lnTo>
                  <a:pt x="202406" y="2357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 repeatCount="100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2" repeatCount="100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8" presetSubtype="3" repeatCount="100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3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6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12" repeatCount="100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06:14:17Z</dcterms:modified>
  <cp:revision>92</cp:revision>
  <dc:subject/>
  <dc:title>スライド 1</dc:title>
</cp:coreProperties>
</file>