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53BB-7408-4AA7-B8A1-A37EFF62CE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0014-A224-40CD-97DC-89C9DBB486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CF7-D01E-441E-95CE-C319BE01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C44-DB29-4059-9C76-4C7B0832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278-1817-4A9A-8B46-874DE4FE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AE4-A2B3-4429-945D-BB297FFC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C5B-EF9F-422E-B51B-E683F76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0C6-CA7D-4F23-8B28-5BD8C6F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B49-0C15-4E78-857C-AA3B7D1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76C-1161-43A6-97BC-E5993CE9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417-10EE-41FC-A2B3-A786635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1A2-46C7-48AF-A28D-2CDEDD2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632-F41A-4F6C-ACAE-FBE3583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9D0-2F98-4DD7-8D59-679B64F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A59D-14FC-46CF-8CB0-7A8E63D298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 rot="16200000">
            <a:off x="2684160" y="4287600"/>
            <a:ext cx="2044800" cy="343080"/>
          </a:xfrm>
          <a:custGeom>
            <a:avLst/>
            <a:gdLst/>
            <a:ahLst/>
            <a:rect l="l" t="t" r="r" b="b"/>
            <a:pathLst>
              <a:path w="2045494" h="342900">
                <a:moveTo>
                  <a:pt x="864394" y="47625"/>
                </a:moveTo>
                <a:lnTo>
                  <a:pt x="1245394" y="80963"/>
                </a:lnTo>
                <a:lnTo>
                  <a:pt x="1490663" y="107157"/>
                </a:lnTo>
                <a:lnTo>
                  <a:pt x="1674019" y="130969"/>
                </a:lnTo>
                <a:lnTo>
                  <a:pt x="1731169" y="138113"/>
                </a:lnTo>
                <a:lnTo>
                  <a:pt x="1757363" y="135732"/>
                </a:lnTo>
                <a:lnTo>
                  <a:pt x="1790700" y="133350"/>
                </a:lnTo>
                <a:lnTo>
                  <a:pt x="1835944" y="126207"/>
                </a:lnTo>
                <a:lnTo>
                  <a:pt x="1876425" y="111919"/>
                </a:lnTo>
                <a:lnTo>
                  <a:pt x="1916906" y="90488"/>
                </a:lnTo>
                <a:lnTo>
                  <a:pt x="1950244" y="64294"/>
                </a:lnTo>
                <a:lnTo>
                  <a:pt x="1976438" y="35719"/>
                </a:lnTo>
                <a:lnTo>
                  <a:pt x="1993106" y="21432"/>
                </a:lnTo>
                <a:lnTo>
                  <a:pt x="2014538" y="14288"/>
                </a:lnTo>
                <a:lnTo>
                  <a:pt x="2031206" y="14288"/>
                </a:lnTo>
                <a:lnTo>
                  <a:pt x="2043113" y="21432"/>
                </a:lnTo>
                <a:lnTo>
                  <a:pt x="2045494" y="35719"/>
                </a:lnTo>
                <a:lnTo>
                  <a:pt x="2043113" y="64294"/>
                </a:lnTo>
                <a:cubicBezTo>
                  <a:pt x="2021273" y="100694"/>
                  <a:pt x="2021681" y="86128"/>
                  <a:pt x="2021681" y="102394"/>
                </a:cubicBezTo>
                <a:lnTo>
                  <a:pt x="1978819" y="171450"/>
                </a:lnTo>
                <a:lnTo>
                  <a:pt x="1931194" y="240507"/>
                </a:lnTo>
                <a:lnTo>
                  <a:pt x="1869281" y="304800"/>
                </a:lnTo>
                <a:lnTo>
                  <a:pt x="1826419" y="340519"/>
                </a:lnTo>
                <a:lnTo>
                  <a:pt x="1807369" y="342900"/>
                </a:lnTo>
                <a:lnTo>
                  <a:pt x="1781175" y="342900"/>
                </a:lnTo>
                <a:lnTo>
                  <a:pt x="1740694" y="328613"/>
                </a:lnTo>
                <a:lnTo>
                  <a:pt x="1654969" y="304800"/>
                </a:lnTo>
                <a:lnTo>
                  <a:pt x="1526381" y="273844"/>
                </a:lnTo>
                <a:lnTo>
                  <a:pt x="1347788" y="250032"/>
                </a:lnTo>
                <a:lnTo>
                  <a:pt x="954881" y="209550"/>
                </a:lnTo>
                <a:lnTo>
                  <a:pt x="731044" y="192882"/>
                </a:lnTo>
                <a:lnTo>
                  <a:pt x="583406" y="183357"/>
                </a:lnTo>
                <a:lnTo>
                  <a:pt x="235744" y="223838"/>
                </a:lnTo>
                <a:lnTo>
                  <a:pt x="140494" y="242888"/>
                </a:lnTo>
                <a:lnTo>
                  <a:pt x="66675" y="273844"/>
                </a:lnTo>
                <a:lnTo>
                  <a:pt x="52388" y="273844"/>
                </a:lnTo>
                <a:lnTo>
                  <a:pt x="23813" y="269082"/>
                </a:lnTo>
                <a:lnTo>
                  <a:pt x="9525" y="259557"/>
                </a:lnTo>
                <a:lnTo>
                  <a:pt x="0" y="238125"/>
                </a:lnTo>
                <a:lnTo>
                  <a:pt x="4763" y="216694"/>
                </a:lnTo>
                <a:lnTo>
                  <a:pt x="30956" y="176213"/>
                </a:lnTo>
                <a:lnTo>
                  <a:pt x="80963" y="114300"/>
                </a:lnTo>
                <a:lnTo>
                  <a:pt x="150019" y="50007"/>
                </a:lnTo>
                <a:lnTo>
                  <a:pt x="195263" y="23813"/>
                </a:lnTo>
                <a:lnTo>
                  <a:pt x="240506" y="9525"/>
                </a:lnTo>
                <a:lnTo>
                  <a:pt x="290513" y="0"/>
                </a:lnTo>
                <a:lnTo>
                  <a:pt x="340519" y="4763"/>
                </a:lnTo>
                <a:lnTo>
                  <a:pt x="428625" y="14288"/>
                </a:lnTo>
                <a:lnTo>
                  <a:pt x="481013" y="26194"/>
                </a:lnTo>
                <a:lnTo>
                  <a:pt x="531019" y="30957"/>
                </a:lnTo>
                <a:lnTo>
                  <a:pt x="688181" y="35719"/>
                </a:lnTo>
                <a:lnTo>
                  <a:pt x="864394" y="476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6"/>
          <p:cNvSpPr/>
          <p:nvPr/>
        </p:nvSpPr>
        <p:spPr>
          <a:xfrm rot="19800000">
            <a:off x="3385800" y="3877920"/>
            <a:ext cx="2484360" cy="1009800"/>
          </a:xfrm>
          <a:custGeom>
            <a:avLst/>
            <a:gdLst/>
            <a:ahLst/>
            <a:rect l="l" t="t" r="r" b="b"/>
            <a:pathLst>
              <a:path w="2484883" h="1009650">
                <a:moveTo>
                  <a:pt x="1871662" y="166688"/>
                </a:moveTo>
                <a:lnTo>
                  <a:pt x="1955006" y="190500"/>
                </a:lnTo>
                <a:lnTo>
                  <a:pt x="2021681" y="216694"/>
                </a:lnTo>
                <a:lnTo>
                  <a:pt x="2200275" y="295275"/>
                </a:lnTo>
                <a:lnTo>
                  <a:pt x="2345531" y="378619"/>
                </a:lnTo>
                <a:lnTo>
                  <a:pt x="2416969" y="438150"/>
                </a:lnTo>
                <a:lnTo>
                  <a:pt x="2484883" y="312329"/>
                </a:lnTo>
                <a:lnTo>
                  <a:pt x="2466975" y="295275"/>
                </a:lnTo>
                <a:lnTo>
                  <a:pt x="2371725" y="235744"/>
                </a:lnTo>
                <a:lnTo>
                  <a:pt x="2269331" y="176213"/>
                </a:lnTo>
                <a:lnTo>
                  <a:pt x="2157412" y="130969"/>
                </a:lnTo>
                <a:lnTo>
                  <a:pt x="2012156" y="90488"/>
                </a:lnTo>
                <a:lnTo>
                  <a:pt x="1881187" y="54769"/>
                </a:lnTo>
                <a:lnTo>
                  <a:pt x="1738312" y="21432"/>
                </a:lnTo>
                <a:lnTo>
                  <a:pt x="1593056" y="4763"/>
                </a:lnTo>
                <a:lnTo>
                  <a:pt x="1490662" y="0"/>
                </a:lnTo>
                <a:lnTo>
                  <a:pt x="1395412" y="2382"/>
                </a:lnTo>
                <a:lnTo>
                  <a:pt x="1297781" y="16669"/>
                </a:lnTo>
                <a:lnTo>
                  <a:pt x="1204912" y="33338"/>
                </a:lnTo>
                <a:lnTo>
                  <a:pt x="1066800" y="66675"/>
                </a:lnTo>
                <a:lnTo>
                  <a:pt x="897731" y="123825"/>
                </a:lnTo>
                <a:lnTo>
                  <a:pt x="752475" y="185738"/>
                </a:lnTo>
                <a:lnTo>
                  <a:pt x="597694" y="261938"/>
                </a:lnTo>
                <a:lnTo>
                  <a:pt x="438150" y="347663"/>
                </a:lnTo>
                <a:lnTo>
                  <a:pt x="280987" y="440532"/>
                </a:lnTo>
                <a:lnTo>
                  <a:pt x="171450" y="507207"/>
                </a:lnTo>
                <a:lnTo>
                  <a:pt x="52387" y="773907"/>
                </a:lnTo>
                <a:lnTo>
                  <a:pt x="28575" y="840582"/>
                </a:lnTo>
                <a:lnTo>
                  <a:pt x="4762" y="919163"/>
                </a:lnTo>
                <a:lnTo>
                  <a:pt x="0" y="1009650"/>
                </a:lnTo>
                <a:lnTo>
                  <a:pt x="42862" y="954882"/>
                </a:lnTo>
                <a:lnTo>
                  <a:pt x="92869" y="866775"/>
                </a:lnTo>
                <a:lnTo>
                  <a:pt x="204787" y="726282"/>
                </a:lnTo>
                <a:lnTo>
                  <a:pt x="340519" y="597694"/>
                </a:lnTo>
                <a:lnTo>
                  <a:pt x="466725" y="492919"/>
                </a:lnTo>
                <a:lnTo>
                  <a:pt x="578644" y="416719"/>
                </a:lnTo>
                <a:lnTo>
                  <a:pt x="700087" y="342900"/>
                </a:lnTo>
                <a:lnTo>
                  <a:pt x="819150" y="278607"/>
                </a:lnTo>
                <a:lnTo>
                  <a:pt x="921544" y="228600"/>
                </a:lnTo>
                <a:lnTo>
                  <a:pt x="1033462" y="188119"/>
                </a:lnTo>
                <a:lnTo>
                  <a:pt x="1131094" y="159544"/>
                </a:lnTo>
                <a:lnTo>
                  <a:pt x="1221581" y="135732"/>
                </a:lnTo>
                <a:lnTo>
                  <a:pt x="1331119" y="116682"/>
                </a:lnTo>
                <a:lnTo>
                  <a:pt x="1433512" y="111919"/>
                </a:lnTo>
                <a:lnTo>
                  <a:pt x="1535906" y="111919"/>
                </a:lnTo>
                <a:lnTo>
                  <a:pt x="1654969" y="123825"/>
                </a:lnTo>
                <a:lnTo>
                  <a:pt x="1743075" y="135732"/>
                </a:lnTo>
                <a:lnTo>
                  <a:pt x="1797844" y="147638"/>
                </a:lnTo>
                <a:lnTo>
                  <a:pt x="1871662" y="1666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8"/>
          <p:cNvSpPr/>
          <p:nvPr/>
        </p:nvSpPr>
        <p:spPr>
          <a:xfrm>
            <a:off x="5589720" y="3592440"/>
            <a:ext cx="676080" cy="750960"/>
          </a:xfrm>
          <a:custGeom>
            <a:avLst/>
            <a:gdLst/>
            <a:ahLst/>
            <a:rect l="l" t="t" r="r" b="b"/>
            <a:pathLst>
              <a:path w="676275" h="750094">
                <a:moveTo>
                  <a:pt x="278606" y="90488"/>
                </a:moveTo>
                <a:lnTo>
                  <a:pt x="223837" y="61913"/>
                </a:lnTo>
                <a:lnTo>
                  <a:pt x="140494" y="33338"/>
                </a:lnTo>
                <a:lnTo>
                  <a:pt x="42862" y="9525"/>
                </a:lnTo>
                <a:lnTo>
                  <a:pt x="0" y="0"/>
                </a:lnTo>
                <a:cubicBezTo>
                  <a:pt x="794" y="46831"/>
                  <a:pt x="1587" y="93663"/>
                  <a:pt x="2381" y="140494"/>
                </a:cubicBezTo>
                <a:lnTo>
                  <a:pt x="42862" y="150019"/>
                </a:lnTo>
                <a:lnTo>
                  <a:pt x="90487" y="166688"/>
                </a:lnTo>
                <a:lnTo>
                  <a:pt x="154781" y="192882"/>
                </a:lnTo>
                <a:lnTo>
                  <a:pt x="204787" y="226219"/>
                </a:lnTo>
                <a:lnTo>
                  <a:pt x="247650" y="259557"/>
                </a:lnTo>
                <a:lnTo>
                  <a:pt x="297656" y="307182"/>
                </a:lnTo>
                <a:lnTo>
                  <a:pt x="328612" y="350044"/>
                </a:lnTo>
                <a:lnTo>
                  <a:pt x="361950" y="397669"/>
                </a:lnTo>
                <a:lnTo>
                  <a:pt x="388144" y="452438"/>
                </a:lnTo>
                <a:lnTo>
                  <a:pt x="407194" y="516732"/>
                </a:lnTo>
                <a:lnTo>
                  <a:pt x="426244" y="581025"/>
                </a:lnTo>
                <a:lnTo>
                  <a:pt x="438150" y="654844"/>
                </a:lnTo>
                <a:lnTo>
                  <a:pt x="445294" y="714375"/>
                </a:lnTo>
                <a:lnTo>
                  <a:pt x="450056" y="750094"/>
                </a:lnTo>
                <a:lnTo>
                  <a:pt x="676275" y="750094"/>
                </a:lnTo>
                <a:lnTo>
                  <a:pt x="671512" y="728663"/>
                </a:lnTo>
                <a:lnTo>
                  <a:pt x="666750" y="681038"/>
                </a:lnTo>
                <a:lnTo>
                  <a:pt x="659606" y="611982"/>
                </a:lnTo>
                <a:lnTo>
                  <a:pt x="647700" y="552450"/>
                </a:lnTo>
                <a:lnTo>
                  <a:pt x="631031" y="495300"/>
                </a:lnTo>
                <a:lnTo>
                  <a:pt x="611981" y="438150"/>
                </a:lnTo>
                <a:lnTo>
                  <a:pt x="581025" y="371475"/>
                </a:lnTo>
                <a:lnTo>
                  <a:pt x="521494" y="285750"/>
                </a:lnTo>
                <a:lnTo>
                  <a:pt x="471487" y="233363"/>
                </a:lnTo>
                <a:lnTo>
                  <a:pt x="402431" y="173832"/>
                </a:lnTo>
                <a:lnTo>
                  <a:pt x="347662" y="130969"/>
                </a:lnTo>
                <a:lnTo>
                  <a:pt x="328612" y="119063"/>
                </a:lnTo>
                <a:lnTo>
                  <a:pt x="278606" y="904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9"/>
          <p:cNvSpPr/>
          <p:nvPr/>
        </p:nvSpPr>
        <p:spPr>
          <a:xfrm>
            <a:off x="5462640" y="4324320"/>
            <a:ext cx="803160" cy="928800"/>
          </a:xfrm>
          <a:custGeom>
            <a:avLst/>
            <a:gdLst/>
            <a:ahLst/>
            <a:rect l="l" t="t" r="r" b="b"/>
            <a:pathLst>
              <a:path w="802481" h="928688">
                <a:moveTo>
                  <a:pt x="752475" y="423863"/>
                </a:moveTo>
                <a:lnTo>
                  <a:pt x="773906" y="347663"/>
                </a:lnTo>
                <a:lnTo>
                  <a:pt x="785812" y="283369"/>
                </a:lnTo>
                <a:lnTo>
                  <a:pt x="795337" y="204788"/>
                </a:lnTo>
                <a:lnTo>
                  <a:pt x="802481" y="100013"/>
                </a:lnTo>
                <a:lnTo>
                  <a:pt x="802481" y="47625"/>
                </a:lnTo>
                <a:lnTo>
                  <a:pt x="795337" y="0"/>
                </a:lnTo>
                <a:lnTo>
                  <a:pt x="576262" y="2381"/>
                </a:lnTo>
                <a:lnTo>
                  <a:pt x="578643" y="47625"/>
                </a:lnTo>
                <a:lnTo>
                  <a:pt x="576262" y="100013"/>
                </a:lnTo>
                <a:lnTo>
                  <a:pt x="576262" y="166688"/>
                </a:lnTo>
                <a:lnTo>
                  <a:pt x="569118" y="235744"/>
                </a:lnTo>
                <a:lnTo>
                  <a:pt x="552450" y="319088"/>
                </a:lnTo>
                <a:lnTo>
                  <a:pt x="516731" y="426244"/>
                </a:lnTo>
                <a:lnTo>
                  <a:pt x="495300" y="476250"/>
                </a:lnTo>
                <a:lnTo>
                  <a:pt x="450056" y="545306"/>
                </a:lnTo>
                <a:lnTo>
                  <a:pt x="395287" y="602456"/>
                </a:lnTo>
                <a:lnTo>
                  <a:pt x="340518" y="650081"/>
                </a:lnTo>
                <a:lnTo>
                  <a:pt x="254793" y="700088"/>
                </a:lnTo>
                <a:lnTo>
                  <a:pt x="166687" y="735806"/>
                </a:lnTo>
                <a:lnTo>
                  <a:pt x="90487" y="757238"/>
                </a:lnTo>
                <a:lnTo>
                  <a:pt x="35718" y="764381"/>
                </a:lnTo>
                <a:lnTo>
                  <a:pt x="0" y="766763"/>
                </a:lnTo>
                <a:cubicBezTo>
                  <a:pt x="794" y="820738"/>
                  <a:pt x="1587" y="874713"/>
                  <a:pt x="2381" y="928688"/>
                </a:cubicBezTo>
                <a:lnTo>
                  <a:pt x="33337" y="928688"/>
                </a:lnTo>
                <a:lnTo>
                  <a:pt x="92868" y="926306"/>
                </a:lnTo>
                <a:lnTo>
                  <a:pt x="145256" y="919163"/>
                </a:lnTo>
                <a:lnTo>
                  <a:pt x="238125" y="900113"/>
                </a:lnTo>
                <a:lnTo>
                  <a:pt x="307181" y="881063"/>
                </a:lnTo>
                <a:lnTo>
                  <a:pt x="361950" y="862013"/>
                </a:lnTo>
                <a:lnTo>
                  <a:pt x="433387" y="826294"/>
                </a:lnTo>
                <a:lnTo>
                  <a:pt x="485775" y="790575"/>
                </a:lnTo>
                <a:lnTo>
                  <a:pt x="538162" y="750094"/>
                </a:lnTo>
                <a:lnTo>
                  <a:pt x="604837" y="688181"/>
                </a:lnTo>
                <a:lnTo>
                  <a:pt x="654843" y="626269"/>
                </a:lnTo>
                <a:lnTo>
                  <a:pt x="700087" y="547688"/>
                </a:lnTo>
                <a:lnTo>
                  <a:pt x="728662" y="485775"/>
                </a:lnTo>
                <a:lnTo>
                  <a:pt x="752475" y="4238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10"/>
          <p:cNvSpPr/>
          <p:nvPr/>
        </p:nvSpPr>
        <p:spPr>
          <a:xfrm>
            <a:off x="4575240" y="4576680"/>
            <a:ext cx="906480" cy="676440"/>
          </a:xfrm>
          <a:custGeom>
            <a:avLst/>
            <a:gdLst/>
            <a:ahLst/>
            <a:rect l="l" t="t" r="r" b="b"/>
            <a:pathLst>
              <a:path w="907257" h="676275">
                <a:moveTo>
                  <a:pt x="245269" y="371475"/>
                </a:moveTo>
                <a:lnTo>
                  <a:pt x="309563" y="438150"/>
                </a:lnTo>
                <a:lnTo>
                  <a:pt x="361950" y="485775"/>
                </a:lnTo>
                <a:lnTo>
                  <a:pt x="423863" y="533400"/>
                </a:lnTo>
                <a:lnTo>
                  <a:pt x="523875" y="600075"/>
                </a:lnTo>
                <a:lnTo>
                  <a:pt x="595313" y="638175"/>
                </a:lnTo>
                <a:lnTo>
                  <a:pt x="702469" y="661987"/>
                </a:lnTo>
                <a:lnTo>
                  <a:pt x="776288" y="669131"/>
                </a:lnTo>
                <a:lnTo>
                  <a:pt x="845344" y="673893"/>
                </a:lnTo>
                <a:lnTo>
                  <a:pt x="904875" y="676275"/>
                </a:lnTo>
                <a:lnTo>
                  <a:pt x="907257" y="514350"/>
                </a:lnTo>
                <a:lnTo>
                  <a:pt x="833438" y="514350"/>
                </a:lnTo>
                <a:lnTo>
                  <a:pt x="757238" y="507206"/>
                </a:lnTo>
                <a:lnTo>
                  <a:pt x="685800" y="490537"/>
                </a:lnTo>
                <a:lnTo>
                  <a:pt x="550069" y="452437"/>
                </a:lnTo>
                <a:lnTo>
                  <a:pt x="461963" y="404812"/>
                </a:lnTo>
                <a:lnTo>
                  <a:pt x="338138" y="319087"/>
                </a:lnTo>
                <a:lnTo>
                  <a:pt x="261938" y="250031"/>
                </a:lnTo>
                <a:lnTo>
                  <a:pt x="171450" y="157162"/>
                </a:lnTo>
                <a:lnTo>
                  <a:pt x="95250" y="64293"/>
                </a:lnTo>
                <a:lnTo>
                  <a:pt x="59532" y="19050"/>
                </a:lnTo>
                <a:lnTo>
                  <a:pt x="35719" y="4762"/>
                </a:lnTo>
                <a:lnTo>
                  <a:pt x="14288" y="0"/>
                </a:lnTo>
                <a:lnTo>
                  <a:pt x="2382" y="7143"/>
                </a:lnTo>
                <a:lnTo>
                  <a:pt x="0" y="21431"/>
                </a:lnTo>
                <a:lnTo>
                  <a:pt x="11907" y="52387"/>
                </a:lnTo>
                <a:lnTo>
                  <a:pt x="45244" y="109537"/>
                </a:lnTo>
                <a:lnTo>
                  <a:pt x="95250" y="192881"/>
                </a:lnTo>
                <a:lnTo>
                  <a:pt x="154782" y="271462"/>
                </a:lnTo>
                <a:lnTo>
                  <a:pt x="245269" y="3714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2"/>
          <p:cNvSpPr/>
          <p:nvPr/>
        </p:nvSpPr>
        <p:spPr>
          <a:xfrm rot="18000000">
            <a:off x="3479760" y="3870360"/>
            <a:ext cx="2827440" cy="1424160"/>
          </a:xfrm>
          <a:custGeom>
            <a:avLst/>
            <a:gdLst/>
            <a:ahLst/>
            <a:rect l="l" t="t" r="r" b="b"/>
            <a:pathLst>
              <a:path w="2826543" h="1423988">
                <a:moveTo>
                  <a:pt x="1604962" y="919163"/>
                </a:moveTo>
                <a:lnTo>
                  <a:pt x="1907381" y="742950"/>
                </a:lnTo>
                <a:lnTo>
                  <a:pt x="2109787" y="616744"/>
                </a:lnTo>
                <a:lnTo>
                  <a:pt x="2255043" y="519113"/>
                </a:lnTo>
                <a:lnTo>
                  <a:pt x="2393156" y="435769"/>
                </a:lnTo>
                <a:lnTo>
                  <a:pt x="2552700" y="321469"/>
                </a:lnTo>
                <a:lnTo>
                  <a:pt x="2621756" y="266700"/>
                </a:lnTo>
                <a:lnTo>
                  <a:pt x="2664618" y="219075"/>
                </a:lnTo>
                <a:lnTo>
                  <a:pt x="2690812" y="178594"/>
                </a:lnTo>
                <a:lnTo>
                  <a:pt x="2709862" y="130969"/>
                </a:lnTo>
                <a:lnTo>
                  <a:pt x="2714625" y="100013"/>
                </a:lnTo>
                <a:lnTo>
                  <a:pt x="2714625" y="64294"/>
                </a:lnTo>
                <a:lnTo>
                  <a:pt x="2707481" y="28575"/>
                </a:lnTo>
                <a:lnTo>
                  <a:pt x="2712243" y="9525"/>
                </a:lnTo>
                <a:lnTo>
                  <a:pt x="2724150" y="0"/>
                </a:lnTo>
                <a:lnTo>
                  <a:pt x="2740818" y="2381"/>
                </a:lnTo>
                <a:lnTo>
                  <a:pt x="2759868" y="11906"/>
                </a:lnTo>
                <a:lnTo>
                  <a:pt x="2776537" y="38100"/>
                </a:lnTo>
                <a:lnTo>
                  <a:pt x="2800350" y="78581"/>
                </a:lnTo>
                <a:lnTo>
                  <a:pt x="2821781" y="126206"/>
                </a:lnTo>
                <a:lnTo>
                  <a:pt x="2824162" y="159544"/>
                </a:lnTo>
                <a:cubicBezTo>
                  <a:pt x="2824956" y="184150"/>
                  <a:pt x="2825749" y="208757"/>
                  <a:pt x="2826543" y="233363"/>
                </a:cubicBezTo>
                <a:cubicBezTo>
                  <a:pt x="2825749" y="259557"/>
                  <a:pt x="2824956" y="285750"/>
                  <a:pt x="2824162" y="311944"/>
                </a:cubicBezTo>
                <a:lnTo>
                  <a:pt x="2812256" y="388144"/>
                </a:lnTo>
                <a:lnTo>
                  <a:pt x="2793206" y="440531"/>
                </a:lnTo>
                <a:lnTo>
                  <a:pt x="2769393" y="478631"/>
                </a:lnTo>
                <a:lnTo>
                  <a:pt x="2740818" y="495300"/>
                </a:lnTo>
                <a:lnTo>
                  <a:pt x="2709862" y="504825"/>
                </a:lnTo>
                <a:lnTo>
                  <a:pt x="2612231" y="547688"/>
                </a:lnTo>
                <a:lnTo>
                  <a:pt x="2495550" y="609600"/>
                </a:lnTo>
                <a:lnTo>
                  <a:pt x="2366962" y="685800"/>
                </a:lnTo>
                <a:lnTo>
                  <a:pt x="2219325" y="771525"/>
                </a:lnTo>
                <a:lnTo>
                  <a:pt x="1845468" y="988219"/>
                </a:lnTo>
                <a:lnTo>
                  <a:pt x="1521618" y="1176338"/>
                </a:lnTo>
                <a:lnTo>
                  <a:pt x="1376362" y="1254919"/>
                </a:lnTo>
                <a:lnTo>
                  <a:pt x="1240631" y="1316831"/>
                </a:lnTo>
                <a:lnTo>
                  <a:pt x="1152525" y="1350169"/>
                </a:lnTo>
                <a:lnTo>
                  <a:pt x="1009650" y="1381125"/>
                </a:lnTo>
                <a:lnTo>
                  <a:pt x="866775" y="1407319"/>
                </a:lnTo>
                <a:lnTo>
                  <a:pt x="740568" y="1419225"/>
                </a:lnTo>
                <a:lnTo>
                  <a:pt x="619125" y="1423988"/>
                </a:lnTo>
                <a:lnTo>
                  <a:pt x="442912" y="1416844"/>
                </a:lnTo>
                <a:lnTo>
                  <a:pt x="338137" y="1402556"/>
                </a:lnTo>
                <a:lnTo>
                  <a:pt x="180975" y="1376363"/>
                </a:lnTo>
                <a:lnTo>
                  <a:pt x="54768" y="1343025"/>
                </a:lnTo>
                <a:lnTo>
                  <a:pt x="16668" y="1326356"/>
                </a:lnTo>
                <a:lnTo>
                  <a:pt x="0" y="1307306"/>
                </a:lnTo>
                <a:lnTo>
                  <a:pt x="0" y="1293019"/>
                </a:lnTo>
                <a:lnTo>
                  <a:pt x="9525" y="1281113"/>
                </a:lnTo>
                <a:lnTo>
                  <a:pt x="35718" y="1273969"/>
                </a:lnTo>
                <a:lnTo>
                  <a:pt x="66675" y="1278731"/>
                </a:lnTo>
                <a:lnTo>
                  <a:pt x="119062" y="1290638"/>
                </a:lnTo>
                <a:lnTo>
                  <a:pt x="209550" y="1304925"/>
                </a:lnTo>
                <a:lnTo>
                  <a:pt x="319087" y="1312069"/>
                </a:lnTo>
                <a:lnTo>
                  <a:pt x="469106" y="1316831"/>
                </a:lnTo>
                <a:lnTo>
                  <a:pt x="571500" y="1309688"/>
                </a:lnTo>
                <a:lnTo>
                  <a:pt x="690562" y="1293019"/>
                </a:lnTo>
                <a:lnTo>
                  <a:pt x="881062" y="1254919"/>
                </a:lnTo>
                <a:lnTo>
                  <a:pt x="971550" y="1226344"/>
                </a:lnTo>
                <a:lnTo>
                  <a:pt x="1176337" y="1143000"/>
                </a:lnTo>
                <a:lnTo>
                  <a:pt x="1400175" y="1028700"/>
                </a:lnTo>
                <a:lnTo>
                  <a:pt x="1495425" y="978694"/>
                </a:lnTo>
                <a:lnTo>
                  <a:pt x="1550193" y="950119"/>
                </a:lnTo>
                <a:lnTo>
                  <a:pt x="1604962" y="919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 repeatCount="1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 repeatCount="100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8:41Z</dcterms:modified>
  <cp:revision>151</cp:revision>
  <dc:subject/>
  <dc:title>スライド 1</dc:title>
</cp:coreProperties>
</file>